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672-594B-4F8D-93B9-49D85AE9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8F8-8F35-485E-8B02-B2692521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83E-12AB-4D92-9B8C-9C9D9CDA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889-8BED-446E-912D-EACA3A77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BE63-2AAE-4326-AAB1-FD595A7C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C22-0C69-4867-9C0F-9489470D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D84-E344-4F34-BFE0-18CABD4D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3E8-6278-4120-869C-F587A18F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2BA-8088-41F5-BF47-7C93D1E3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C60-3F21-4153-AFE2-B51EF2BE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D840-32AD-4FAD-BA4F-6C234E24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846-2378-43AE-B74F-9FE36441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C208-10BD-4909-BC98-EA40A15E8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4 PE @ FC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523880"/>
            <a:ext cx="7559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PS Demo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ikispace (should w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CPS Instru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xam View Tutor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 Tutor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 Brea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 &amp; Group Work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-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-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-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/ US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 &amp; Sched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questions/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assessments (graded/ungra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ketball key with tape marks on ground and bu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zones or squ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 at beginning (pre-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st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View questions already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modal; express themselves in writing in computer lab as well as 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student thoughts, opinions, prior knowledge, and end of class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Day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on during norm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opardy review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building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folio grades (MS PE) as they write, they also click and you review as you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for 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assess for 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sure that you are getting feedback from every student, not just the same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ing of students by ability/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tudents must ans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ing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hrea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to guide your lesson planning &amp; instruction to make sure that you are hitting everything that you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S review to create study guide options for individual students (personalized for each stud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g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playing field; less su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tab to act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un off flash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clickers on the ground and point towards the receiver on the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8:41:17Z</dcterms:created>
  <dc:creator>fcps</dc:creator>
  <dc:description/>
  <dc:language>en-US</dc:language>
  <cp:lastModifiedBy>FCPS</cp:lastModifiedBy>
  <dcterms:modified xsi:type="dcterms:W3CDTF">2007-11-12T18:32:15Z</dcterms:modified>
  <cp:revision>3</cp:revision>
  <dc:subject/>
  <dc:title>CPS 4 PE @ FCPS</dc:title>
</cp:coreProperties>
</file>