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091C-AE3E-4146-91BA-325AF718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011B-1FE1-49CD-85B8-BC4A565A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EA1A-A7EA-4EAC-9CC4-300E94FF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2C93-7D3A-4AC8-BB56-36C23362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8141-4FD8-45DA-87AA-45A327CA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7525-5FE4-4A5E-BE4E-27E0D68F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7CA4-2036-4F06-A6BD-1B43CBB2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C036-6B50-4BAC-92D2-F4922256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BCBD-F7D6-485A-A51F-D310AD7F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BD10-0264-48D6-8B15-BDA4B1CC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2E50-0FE1-41B5-B87D-85C7CDE6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2872-EF60-41BB-BDE8-BAE45D4C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6742-EB42-4ECB-8EF0-136511DE9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4 PE @ FC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523880"/>
            <a:ext cx="755964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: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CPS Demo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: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Wikispace (should we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CPS Instru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xam View Tutori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 Tutori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nch Brea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: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instorm &amp; Group Work Ti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: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ary - 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 - 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-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ing / US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: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ure &amp; Schedu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: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questions/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assessments (graded/ungra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ulative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al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ketball key with tape marks on ground and bu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 zones or squ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-Up at beginning (pre-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st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View questions already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modal; express themselves in writing in computer lab as well as multiple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student thoughts, opinions, prior knowledge, and end of class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Day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on during normal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opardy review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building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folio grades (MS PE) as they write, they also click and you review as you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for C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assess for C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sure that you are getting feedback from every student, not just the same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ing of students by ability/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ted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students must answ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ymous 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aging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on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threa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tive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to guide your lesson planning &amp; instruction to make sure that you are hitting everything that you ne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S review to create study guide options for individual students (personalized for each stud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 gr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playing field; less su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ubleshoo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r tab to act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run off flash dr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clickers on the ground and point towards the receiver on the f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18:41:17Z</dcterms:created>
  <dc:creator>fcps</dc:creator>
  <dc:description/>
  <dc:language>en-US</dc:language>
  <cp:lastModifiedBy>FCPS</cp:lastModifiedBy>
  <dcterms:modified xsi:type="dcterms:W3CDTF">2007-11-12T18:32:15Z</dcterms:modified>
  <cp:revision>3</cp:revision>
  <dc:subject/>
  <dc:title>CPS 4 PE @ FCPS</dc:title>
</cp:coreProperties>
</file>