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B66-737E-4BA5-9614-756E3E83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3D0-713D-4E64-9909-C292B46F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BFD-0288-4468-B1E0-1985D982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269-CE77-4A85-9F29-3C7BD726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7A5-6ED2-4605-95E4-A5337B2A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1A8-B0EB-4C12-9D41-A861C90A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D60-FD2C-4149-A1FE-4828DBC0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599-6B4D-49AD-8B9A-CEAF073C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CC0-9CF2-43A0-B551-160CC6FF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D8E-071C-4536-8156-3F006015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CBF-4D2C-4182-97ED-0E69D59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08F-F4AB-4735-A042-0FE5E5E0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2FB5-3D4E-4ADC-A118-6041C3344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CPS eInstruction  Activity Templ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(Insert Title of Test He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reator’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Grade ? / Schoo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Insert your question or problem here.  You may also want to insert (copy &amp; paste) images, diagrams, or photographs a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ossibl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4191120"/>
            <a:ext cx="2438640" cy="228600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Continue to inse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Duplicate s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Michael Hakkarinen</cp:lastModifiedBy>
  <dcterms:modified xsi:type="dcterms:W3CDTF">2007-03-06T22:58:35Z</dcterms:modified>
  <cp:revision>4</cp:revision>
  <dc:subject/>
  <dc:title>MSA Math Practice: Session 1</dc:title>
</cp:coreProperties>
</file>