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EE72-6893-4056-844C-1874279C9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1913-C145-4271-8D09-8B7892A00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55A9-4A92-476A-BFB0-DC671A85F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3C48-6D17-4297-B62B-BCB9CFA37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AC61-959E-4991-BB05-789C00026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F689-AEA8-4CD8-934F-396A80150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5673-1775-4176-87B1-F06FC17E0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8889-3A63-456A-BD81-31A009EA8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86F9-B2DC-4A52-BDB1-78735C40E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C5DD-C280-416B-9A03-7D04E8931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5210-C5A1-4CDC-940D-A81A89C92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C1D8-F8AE-4E53-B525-A10230279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4B54E-00C2-48FE-89E4-DED2B7134A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2514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icrosoft Sans Serif"/>
              </a:rPr>
              <a:t>CPS eInstruction  Activity Templat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Microsoft Sans Serif"/>
              </a:rPr>
              <a:t>(Insert Title of Test Here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Creator’s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Grade ? / School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D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math-problems" descr=""/>
          <p:cNvPicPr/>
          <p:nvPr/>
        </p:nvPicPr>
        <p:blipFill>
          <a:blip r:embed="rId1"/>
          <a:stretch/>
        </p:blipFill>
        <p:spPr>
          <a:xfrm>
            <a:off x="228600" y="4038480"/>
            <a:ext cx="2492280" cy="2560680"/>
          </a:xfrm>
          <a:prstGeom prst="rect">
            <a:avLst/>
          </a:prstGeom>
          <a:ln w="0">
            <a:noFill/>
          </a:ln>
        </p:spPr>
      </p:pic>
      <p:pic>
        <p:nvPicPr>
          <p:cNvPr id="44" name="einstruction" descr=""/>
          <p:cNvPicPr/>
          <p:nvPr/>
        </p:nvPicPr>
        <p:blipFill>
          <a:blip r:embed="rId2"/>
          <a:stretch/>
        </p:blipFill>
        <p:spPr>
          <a:xfrm>
            <a:off x="6647040" y="228600"/>
            <a:ext cx="21081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Insert your question or problem here.  You may also want to insert (copy &amp; paste) images, diagrams, or photographs as necessa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38862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Possible ans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Possible ans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Possible ans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Possible ans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183800" y="304920"/>
            <a:ext cx="167868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QUESTION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38320" y="304920"/>
            <a:ext cx="280656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Title of Test or A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Insert your question or problem here.  You may also want to insert (copy &amp; paste) images, diagrams, or photographs as necessa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38862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Possible ans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Possible ans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Possible ans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Possible ans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183800" y="304920"/>
            <a:ext cx="167868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QUESTION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38320" y="304920"/>
            <a:ext cx="280656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Title of Test or A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Insert your question or problem here.  You may also want to insert (copy &amp; paste) images, diagrams, or photographs as necessa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38862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Possible ans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Possible ans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Possible ans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Possible ans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183800" y="304920"/>
            <a:ext cx="167868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QUESTION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38320" y="304920"/>
            <a:ext cx="280656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Title of Test or A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5880" y="4191120"/>
            <a:ext cx="2438640" cy="2286000"/>
          </a:xfrm>
          <a:prstGeom prst="irregularSeal2">
            <a:avLst/>
          </a:prstGeom>
          <a:gradFill rotWithShape="0">
            <a:gsLst>
              <a:gs pos="0">
                <a:srgbClr val="ff0000"/>
              </a:gs>
              <a:gs pos="50000">
                <a:srgbClr val="ffff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icrosoft Sans Serif"/>
              </a:rPr>
              <a:t>Continue to inser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icrosoft Sans Serif"/>
              </a:rPr>
              <a:t>Duplicate slid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6T16:34:29Z</dcterms:created>
  <dc:creator>Michael Hakkarinen</dc:creator>
  <dc:description/>
  <dc:language>en-US</dc:language>
  <cp:lastModifiedBy>Michael Hakkarinen</cp:lastModifiedBy>
  <dcterms:modified xsi:type="dcterms:W3CDTF">2007-03-06T22:58:35Z</dcterms:modified>
  <cp:revision>4</cp:revision>
  <dc:subject/>
  <dc:title>MSA Math Practice: Session 1</dc:title>
</cp:coreProperties>
</file>