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2F2-2486-413F-A9A4-907D85CB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83C-4DC3-4A57-B39E-E028EBE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007-327E-4AD6-8104-5C6AE5BF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404-69B7-4631-812B-6EE06513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047-E151-4FCB-8A77-AE14B68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893-D41A-4D5B-BD2A-3E42750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DC8-304B-4772-93AF-1C6BA08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981-241B-4774-BCC3-E7AE394C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642-76DE-4011-92C0-21651EBC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17E-0119-4F9F-9BF8-7DA3326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13D-4FB7-47DA-ACAC-CCCBAA3A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646-C699-430E-91E6-790F676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D0BB-C2E3-4265-AA16-B59A7927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instruction.com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Formative Assessm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es your school have a set of CPS response pa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What kind of resources are available at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www.einstruction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struction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chnical Troubleshoot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Online chat with Techn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Behind the Sc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ow that you have taken a “Practice Quiz” using the remotes, lets see how we did it and what you can do now with the resul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on the “Close”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ay Yes to Prom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pen the “Reports”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lect the recent test and “Gener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2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Survey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ave you ever used the CPS eInstruction system as a particip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3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Anonymous Opinion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re you intimidated about using this system in your class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Do you think students would be more likely to participate in your classes if they could share their ideas anonymous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Practice Quiz Question #5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Microsoft Sans Serif"/>
              </a:rPr>
              <a:t>“Ridiculous Ques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f Britney Spears started dating Jack Nicholson, what do you think their celebrity couple nickname would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Jack-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NicholS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s Good As It 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ne Flew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 Cuckoo's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10636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22920" y="3657600"/>
            <a:ext cx="18446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color will your number flash if you hit the same answer repeated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at button does the teacher hit when they want to end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Ex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re are two types of CPS systems.  Which one of the below is not one of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fr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Microsoft Sans Serif"/>
              </a:rPr>
              <a:t>Practice Quiz Question #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s the name of the company that makes the Classroom Performance System or “CPS” dev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Learning in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asy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40:01Z</dcterms:created>
  <dc:creator>Michael Hakkarinen</dc:creator>
  <dc:description/>
  <dc:language>en-US</dc:language>
  <cp:lastModifiedBy>fcps</cp:lastModifiedBy>
  <dcterms:modified xsi:type="dcterms:W3CDTF">2007-11-12T02:16:12Z</dcterms:modified>
  <cp:revision>10</cp:revision>
  <dc:subject/>
  <dc:title>CPS eInstruction</dc:title>
</cp:coreProperties>
</file>