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AD9-00BF-4975-AF4F-06901B8C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F32-05C0-4F85-B8BC-7165FFDA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D2E-30C8-487D-8E45-C7A09F63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F98-3975-4CF8-BC0F-E0D4593E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666-2253-4CA1-A14F-A58AB407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598-43D5-40DB-9B05-CA4E2C91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D73-9C29-437D-8147-78A85E0F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6D7-29C7-43F3-A4F7-D4C66869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C71-D222-454C-8082-D6BFF07C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7D1-AC5B-4B3F-B57A-B63F1338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4C4-49FA-41D4-8B75-6587E8CC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940-E845-4F0E-B348-F2423668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9D99-64C1-48B6-B262-970D28CE8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instruction.com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1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Formative Assessmen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Does your school have a set of CPS response pad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kind of resources are available at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Microsoft Sans Serif"/>
                <a:hlinkClick r:id="rId1"/>
              </a:rPr>
              <a:t>www.einstruction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icrosoft Sans Serif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Online Tuto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nstructional Vi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echnical Troubleshooting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Online chat with Technic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Behind the Sc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Now that you have taken a “Practice Quiz” using the remotes, lets see how we did it and what you can do now with the resul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on the “Close” bu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ay Yes to Prom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Open the “Reports” 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lect the recent test and “Genera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2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Survey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Have you ever used the CPS eInstruction system as a participa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3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Anonymous Opinion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Are you intimidated about using this system in your classro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Do you think students would be more likely to participate in your classes if they could share their ideas anonymous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5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Ridiculous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f Britney Spears started dating Jack Nicholson, what do you think their celebrity couple nickname would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Jack-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NicholSp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As Good As It 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One Flew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 Cuckoo's N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210636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22920" y="3657600"/>
            <a:ext cx="184464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What color will your number flash if you hit the same answer repeated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What button does the teacher hit when they want to end the ques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ng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x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x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re are two types of CPS systems.  Which one of the below is not one of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fr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Bluet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is the name of the company that makes the Classroom Performance System or “CPS” devi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Learning in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asy Cl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40:01Z</dcterms:created>
  <dc:creator>Michael Hakkarinen</dc:creator>
  <dc:description/>
  <dc:language>en-US</dc:language>
  <cp:lastModifiedBy>fcps</cp:lastModifiedBy>
  <dcterms:modified xsi:type="dcterms:W3CDTF">2007-11-12T02:16:12Z</dcterms:modified>
  <cp:revision>10</cp:revision>
  <dc:subject/>
  <dc:title>CPS eInstruction</dc:title>
</cp:coreProperties>
</file>