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26DD-A761-4EDF-ACF4-E7F423D2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3EDB-DE03-4855-9E57-1C8C5802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2209-C1B9-4CBA-AAAE-BB8C3FCDA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A749-0824-45F2-BC68-EAE755BF1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B348-1658-437A-885B-A518991E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90BE-B7E2-431C-AC64-584BE237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AF80-13FB-4931-B6A1-8E425435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FF9A-1134-4ED6-AAD3-3794E924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3132-556B-4678-A8E9-90B98E61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6C95-90E6-43BE-9B25-BEF1DFEC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C95E-810F-4158-9DEF-E8C75D18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1727-1730-4A42-90EB-4F767EED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7DCD-F502-447A-8532-ECD4E3CAB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4 PE @ FC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523880"/>
            <a:ext cx="75596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: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CPS Demo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: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Wikispace (should we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CPS Instru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xam View Tutori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 Tutori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nch Brea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: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instorm &amp; Group Work Ti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: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ary - 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 - 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-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ing / US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: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ure &amp; Schedu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: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questions/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assessments (graded/ungra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ulative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al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ketball key with tape marks on ground and bu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 zones or squ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 at beginning (pre-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st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View questions already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modal; express themselves in writing in computer lab as well as multiple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student thoughts, opinions, prior knowledge, and end of class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Day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on during normal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opardy review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building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folio grades (MS PE) as they write, they also click and you review as you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for C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assess for C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sure that you are getting feedback from every student, not just the same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ing of students by ability/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ted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students must answ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ymous 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aging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n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threa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tive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to guide your lesson planning &amp; instruction to make sure that you are hitting everything that you ne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S review to create study guide options for individual students (personalized for each stud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 gr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playing field; less su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ubleshoo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r tab to act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run off flash dr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clickers on the ground and point towards the receiver on the f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18:41:17Z</dcterms:created>
  <dc:creator>fcps</dc:creator>
  <dc:description/>
  <dc:language>en-US</dc:language>
  <cp:lastModifiedBy>FCPS</cp:lastModifiedBy>
  <dcterms:modified xsi:type="dcterms:W3CDTF">2007-11-12T18:32:15Z</dcterms:modified>
  <cp:revision>3</cp:revision>
  <dc:subject/>
  <dc:title>CPS 4 PE @ FCPS</dc:title>
</cp:coreProperties>
</file>