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F46-B261-4E2C-BABA-DEE2EB57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FA0-5501-4899-A3EC-EAD1CFF5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AF0-ED4B-41D8-872F-5F36CCB5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EB2-1F54-439D-9F41-02B4827C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D7C-44B9-42A1-A440-3259B70D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6B9-BC11-4E54-9765-97BA21B6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564-AA8A-4921-A675-A7302BA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F18-B22A-4926-9F76-8826447F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18F-99D5-4FAE-8E67-1086459B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3D0-514B-4B38-92D1-9CC11F24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FAA-9CDD-4DC5-B075-8791843D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333-C6F2-4697-A0DF-A35BF1A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12F-9862-42BB-8B79-5748D4675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4 PE @ FC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3880"/>
            <a:ext cx="7559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PS Demo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ikispace (should w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CPS Instr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xam View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 Bre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&amp; Group Work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-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/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&amp; 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questions/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ssessments (graded/ungra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key with tape marks on ground and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zones or squ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 at beginning (pre-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View questions alread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odal; express themselves in writing in computer lab as well as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student thoughts, opinions, prior knowledge, and end of class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Day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 during norm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opardy review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build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grades (MS PE) as they write, they also click and you review as you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ssess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you are getting feedback from every student, not just the sam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ing of students by ability/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tudents must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hrea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guide your lesson planning &amp; instruction to make sure that you are hitting everything that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 review to create study guide options for individual students (personalized for each stu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playing field; less 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tab to ac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un off flash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lickers on the ground and point towards the receiver on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41:17Z</dcterms:created>
  <dc:creator>fcps</dc:creator>
  <dc:description/>
  <dc:language>en-US</dc:language>
  <cp:lastModifiedBy>FCPS</cp:lastModifiedBy>
  <dcterms:modified xsi:type="dcterms:W3CDTF">2007-11-12T18:32:15Z</dcterms:modified>
  <cp:revision>3</cp:revision>
  <dc:subject/>
  <dc:title>CPS 4 PE @ FCPS</dc:title>
</cp:coreProperties>
</file>