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BDC-ABD1-4D50-8B5F-0E20A986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BA5-5E99-49FA-8F6F-EA162B6F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FDB-E41F-4E9F-AE23-D1DAAD35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0CD-0E95-483A-A97D-B688F0C8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34F-9527-4022-8F2A-E7F89F5A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6B1-5136-4404-BFE8-C646E7DE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BE2-5385-4A29-B06E-543C90C3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427-5D3C-4F18-8390-A6F355FC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C9D-4815-42B6-BE8B-EFC738B2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FEB-491B-42C4-82F9-CF2ECFBD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7EC-5BB9-4C56-89F4-9CD4CD85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8B9-30D6-4E7F-9BB5-48AE88D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B786-F496-42E7-AAC3-77C83B114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4 PE @ FC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523880"/>
            <a:ext cx="7559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PS Demo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ikispace (should w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CPS Instru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xam View Tutor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 Tutor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 Brea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 &amp; Group Work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-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/ U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 &amp; Sched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questions/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assessments (graded/ungra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ketball key with tape marks on ground and bu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zones or squ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 at beginning (pre-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View questions alread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modal; express themselves in writing in computer lab as well as 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student thoughts, opinions, prior knowledge, and end of class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Day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on during norm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opardy review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building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 grades (MS PE) as they write, they also click and you review as you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for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assess for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sure that you are getting feedback from every student, not just the same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ing of students by ability/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tudents must ans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hrea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guide your lesson planning &amp; instruction to make sure that you are hitting everything that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S review to create study guide options for individual students (personalized for each stud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g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playing field; less su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tab to ac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un off flash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clickers on the ground and point towards the receiver on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8:41:17Z</dcterms:created>
  <dc:creator>fcps</dc:creator>
  <dc:description/>
  <dc:language>en-US</dc:language>
  <cp:lastModifiedBy>FCPS</cp:lastModifiedBy>
  <dcterms:modified xsi:type="dcterms:W3CDTF">2007-11-12T18:32:15Z</dcterms:modified>
  <cp:revision>3</cp:revision>
  <dc:subject/>
  <dc:title>CPS 4 PE @ FCPS</dc:title>
</cp:coreProperties>
</file>