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E7C-D31A-48AA-988C-A0C391AC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FEEA-3697-4D17-BE87-F973BAD1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90BF-8A90-4286-8996-782E3AA1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EF3-3C73-495B-94F2-A0A4C57F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E1F-AB02-4880-A919-E6D947EA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AB4-DD61-48C9-B092-07CC310D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680E-FFA8-4CC3-8CA2-76073EE4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E9E-F1E2-4BDA-BB2D-46E41269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23B-BC8A-48BF-879A-D3499F8A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5CC-6419-4DB1-AC93-545EF9D2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372-A04D-42C0-9F5B-CD8515C4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4664-0A98-4939-9F7A-207745D7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79A4-4AB4-4341-9642-EC3F971A3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4 PE @ FC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523880"/>
            <a:ext cx="7559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PS Demo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ikispace (should w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CPS Instru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xam View Tutori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 Tutori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ch Brea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nstorm &amp; Group Work 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ary -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-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-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/ US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ure &amp; Sched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questions/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assessments (graded/ungra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ative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ketball key with tape marks on ground and bu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zones or squ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 at beginning (pre-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st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View questions already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modal; express themselves in writing in computer lab as well as 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student thoughts, opinions, prior knowledge, and end of class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Day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on during norm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opardy review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building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folio grades (MS PE) as they write, they also click and you review as you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for 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assess for 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sure that you are getting feedback from every student, not just the same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ing of students by ability/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tudents must ans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ing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hrea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to guide your lesson planning &amp; instruction to make sure that you are hitting everything that you ne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S review to create study guide options for individual students (personalized for each stud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gr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playing field; less su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ublesho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tab to act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un off flash 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clickers on the ground and point towards the receiver on the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8:41:17Z</dcterms:created>
  <dc:creator>fcps</dc:creator>
  <dc:description/>
  <dc:language>en-US</dc:language>
  <cp:lastModifiedBy>FCPS</cp:lastModifiedBy>
  <dcterms:modified xsi:type="dcterms:W3CDTF">2007-11-12T18:32:15Z</dcterms:modified>
  <cp:revision>3</cp:revision>
  <dc:subject/>
  <dc:title>CPS 4 PE @ FCPS</dc:title>
</cp:coreProperties>
</file>