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6898-63B5-42E2-9274-3BF245A9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194F-A943-468B-A483-AF7054C2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0073-1C4C-4BDD-911E-FC11DD57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56B1-DDD9-4EDA-89B5-91388FDB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518C-3E06-4AF2-9A45-4B94DD1E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89A-3E07-4473-B81B-4D448287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66E6-1F1B-46CE-A3FC-26079053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F14C-B971-46B4-AE57-0EE1734F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ACF8-6B4C-4236-A96A-8A009584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B113-606F-4AFF-9C34-2A4102CB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F7A0-052C-49AE-A6FA-7479FB16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0ADF-A122-4FA3-8A7A-569933F8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564A-1871-4ED1-9F5A-027793882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CPS eInstruction  Activity Templat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(Insert Title of Test Her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reator’s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Grade ? / Schoo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ath-problems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2492280" cy="2560680"/>
          </a:xfrm>
          <a:prstGeom prst="rect">
            <a:avLst/>
          </a:prstGeom>
          <a:ln w="0">
            <a:noFill/>
          </a:ln>
        </p:spPr>
      </p:pic>
      <p:pic>
        <p:nvPicPr>
          <p:cNvPr id="44" name="einstruction" descr=""/>
          <p:cNvPicPr/>
          <p:nvPr/>
        </p:nvPicPr>
        <p:blipFill>
          <a:blip r:embed="rId2"/>
          <a:stretch/>
        </p:blipFill>
        <p:spPr>
          <a:xfrm>
            <a:off x="6647040" y="228600"/>
            <a:ext cx="2108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nsert your question or problem here.  You may also want to insert (copy &amp; paste) images, diagrams, or photographs as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8320" y="304920"/>
            <a:ext cx="28065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tle of Test 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nsert your question or problem here.  You may also want to insert (copy &amp; paste) images, diagrams, or photographs as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8320" y="304920"/>
            <a:ext cx="28065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tle of Test 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nsert your question or problem here.  You may also want to insert (copy &amp; paste) images, diagrams, or photographs as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8320" y="304920"/>
            <a:ext cx="28065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tle of Test 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4191120"/>
            <a:ext cx="2438640" cy="2286000"/>
          </a:xfrm>
          <a:prstGeom prst="irregularSeal2">
            <a:avLst/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Continue to inse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Duplicate sli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34:29Z</dcterms:created>
  <dc:creator>Michael Hakkarinen</dc:creator>
  <dc:description/>
  <dc:language>en-US</dc:language>
  <cp:lastModifiedBy>Michael Hakkarinen</cp:lastModifiedBy>
  <dcterms:modified xsi:type="dcterms:W3CDTF">2007-03-06T22:58:35Z</dcterms:modified>
  <cp:revision>4</cp:revision>
  <dc:subject/>
  <dc:title>MSA Math Practice: Session 1</dc:title>
</cp:coreProperties>
</file>