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C61-8530-4400-8A13-B21F2B0A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858-A723-49A9-9F6F-9DFE0446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F6B-5CA1-486D-8513-DDC13F07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648-6AD2-4761-8FF5-0456E5E3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965-CD7E-406E-BC85-D53CF1C2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A4F-709C-4FC2-8411-C396070F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05AF-9D42-4538-BB22-0B326A8B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D3D-2B94-4A71-8F26-3FC490C6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313-68E7-4227-AE07-1ECFC469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822-21D3-47E1-AA0B-FD144260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BFB-0116-4B36-B7A0-D90482FD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682-B9C5-4805-B4BF-38A5FA6D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BFFB-E3F1-4793-95D7-68D0ACFF8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CPS eInstruction  Activity Templa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(Insert Title of Test He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reator’s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Grade ? / Schoo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ath-problems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2492280" cy="2560680"/>
          </a:xfrm>
          <a:prstGeom prst="rect">
            <a:avLst/>
          </a:prstGeom>
          <a:ln w="0">
            <a:noFill/>
          </a:ln>
        </p:spPr>
      </p:pic>
      <p:pic>
        <p:nvPicPr>
          <p:cNvPr id="44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sert your question or problem here.  You may also want to insert (copy &amp; paste) images, diagrams, or photographs as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sert your question or problem here.  You may also want to insert (copy &amp; paste) images, diagrams, or photographs as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sert your question or problem here.  You may also want to insert (copy &amp; paste) images, diagrams, or photographs as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4191120"/>
            <a:ext cx="2438640" cy="228600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Continue to inse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Duplicate sl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Michael Hakkarinen</cp:lastModifiedBy>
  <dcterms:modified xsi:type="dcterms:W3CDTF">2007-03-06T22:58:35Z</dcterms:modified>
  <cp:revision>4</cp:revision>
  <dc:subject/>
  <dc:title>MSA Math Practice: Session 1</dc:title>
</cp:coreProperties>
</file>