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C82BB-1528-44CB-90BB-A050E1751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F7287-3591-482F-BC41-7FA62438B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ACB21-4EB0-403C-903C-9C655E7F9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78D9C-68D0-43D6-BF62-4A1405950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499C8-5DF3-4714-ADBF-7DB53CCAC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A6F4D-035E-4402-A933-4DE845392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AC538-6BB0-4805-A664-C5B155F8A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EB88F-A633-422F-BB6A-448944B8E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A9E2C-C29F-45D1-BB08-51B05E0CC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F00C7-C012-4C63-A806-0958728C8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CCE30-D3F6-4E73-AC59-C145DCA41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A30CD-5763-46C0-94AF-D719AAA8F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BB085-29F5-42E4-848A-65F2626863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920" y="2514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Microsoft Sans Serif"/>
              </a:rPr>
              <a:t>CPS eInstruction  Activity Templat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Microsoft Sans Serif"/>
              </a:rPr>
              <a:t>(Insert Title of Test Here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Creator’s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Grade ? / School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D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math-problems" descr=""/>
          <p:cNvPicPr/>
          <p:nvPr/>
        </p:nvPicPr>
        <p:blipFill>
          <a:blip r:embed="rId1"/>
          <a:stretch/>
        </p:blipFill>
        <p:spPr>
          <a:xfrm>
            <a:off x="228600" y="4038480"/>
            <a:ext cx="2492280" cy="2560680"/>
          </a:xfrm>
          <a:prstGeom prst="rect">
            <a:avLst/>
          </a:prstGeom>
          <a:ln w="0">
            <a:noFill/>
          </a:ln>
        </p:spPr>
      </p:pic>
      <p:pic>
        <p:nvPicPr>
          <p:cNvPr id="44" name="einstruction" descr=""/>
          <p:cNvPicPr/>
          <p:nvPr/>
        </p:nvPicPr>
        <p:blipFill>
          <a:blip r:embed="rId2"/>
          <a:stretch/>
        </p:blipFill>
        <p:spPr>
          <a:xfrm>
            <a:off x="6647040" y="228600"/>
            <a:ext cx="21081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Insert your question or problem here.  You may also want to insert (copy &amp; paste) images, diagrams, or photographs as necessar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388620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Possible answ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Possible answ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Possible answ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Possible answ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183800" y="304920"/>
            <a:ext cx="1678680" cy="398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QUESTION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38320" y="304920"/>
            <a:ext cx="2806560" cy="398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Title of Test or Activ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Insert your question or problem here.  You may also want to insert (copy &amp; paste) images, diagrams, or photographs as necessar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388620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Possible answ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Possible answ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Possible answ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Possible answ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183800" y="304920"/>
            <a:ext cx="1678680" cy="398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QUESTION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38320" y="304920"/>
            <a:ext cx="2806560" cy="398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Title of Test or Activ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Insert your question or problem here.  You may also want to insert (copy &amp; paste) images, diagrams, or photographs as necessar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388620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Possible answ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Possible answ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Possible answ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Possible answ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183800" y="304920"/>
            <a:ext cx="1678680" cy="398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QUESTION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38320" y="304920"/>
            <a:ext cx="2806560" cy="398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Title of Test or Activ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095880" y="4191120"/>
            <a:ext cx="2438640" cy="2286000"/>
          </a:xfrm>
          <a:prstGeom prst="irregularSeal2">
            <a:avLst/>
          </a:prstGeom>
          <a:gradFill rotWithShape="0">
            <a:gsLst>
              <a:gs pos="0">
                <a:srgbClr val="ff0000"/>
              </a:gs>
              <a:gs pos="50000">
                <a:srgbClr val="ffff00"/>
              </a:gs>
              <a:gs pos="100000">
                <a:srgbClr val="ff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icrosoft Sans Serif"/>
              </a:rPr>
              <a:t>Continue to inser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icrosoft Sans Serif"/>
              </a:rPr>
              <a:t>Duplicate slid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6T16:34:29Z</dcterms:created>
  <dc:creator>Michael Hakkarinen</dc:creator>
  <dc:description/>
  <dc:language>en-US</dc:language>
  <cp:lastModifiedBy>Michael Hakkarinen</cp:lastModifiedBy>
  <dcterms:modified xsi:type="dcterms:W3CDTF">2007-03-06T22:58:35Z</dcterms:modified>
  <cp:revision>4</cp:revision>
  <dc:subject/>
  <dc:title>MSA Math Practice: Session 1</dc:title>
</cp:coreProperties>
</file>