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BF6-DB0F-4FFA-BF3A-27F236D0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E61-E4CF-425F-8236-DCBD7B49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F49-5404-4EC5-A21A-D6A5F868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F70-6F2B-4D04-B590-A56B4FC3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C0A-4F53-48E1-84CB-3D86DBB5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3A9-7283-417E-B852-97E5F5CF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845-AF18-4FF3-880D-7AEDAE4E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F8D-0A7D-493B-9ADE-03869ADE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E1B-DAFC-42E8-8D2B-CEAD2C42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90E-EF16-4CE6-AA45-F97D3312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DC7-40D9-48F9-A009-C93630B5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C31-8D34-4EF0-ABF9-B2AA4648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4DB1-D2BA-49AD-949E-6E48C8926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CPS eInstruction  Activity Templ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(Insert Title of Test He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reator’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Grade ? / Schoo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492280" cy="256068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4191120"/>
            <a:ext cx="2438640" cy="228600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Continue to inse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Duplicate sl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Michael Hakkarinen</cp:lastModifiedBy>
  <dcterms:modified xsi:type="dcterms:W3CDTF">2007-03-06T22:58:35Z</dcterms:modified>
  <cp:revision>4</cp:revision>
  <dc:subject/>
  <dc:title>MSA Math Practice: Session 1</dc:title>
</cp:coreProperties>
</file>