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93C8-9B01-43BE-8E17-41B48D687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4D57-6834-4159-AEA4-3B992F7B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C5CF-F731-44A3-AE8E-8721E7C7F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0160-EFD4-4C40-AAE3-71F2E4D3D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1B89-3BF4-4944-B6E3-ECC9E7F3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E323-B5A8-4661-9ADB-B5039D34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F6F0-40FC-4A7A-BD81-CE2E2720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EDD9-6A96-4ED7-A348-16246777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0004-9503-428D-BB2F-9EC76DEC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051E-0B74-48C2-B810-5ED9FB8D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CC7B-72D1-4E69-ACD8-3476B1E7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73CF-B70A-40BD-8507-0893B887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ACA1-F124-4324-B0CB-1001D4A70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instruction.com/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Microsoft Sans Serif"/>
              </a:rPr>
              <a:t>Practice Quiz Question #1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Microsoft Sans Serif"/>
              </a:rPr>
              <a:t>“Formative Assessment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Does your school have a set of CPS response pad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Y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Microsoft Sans Serif"/>
              </a:rPr>
              <a:t>Practice Quiz Question #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What kind of resources are available at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Microsoft Sans Serif"/>
                <a:hlinkClick r:id="rId1"/>
              </a:rPr>
              <a:t>www.einstruction.co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Microsoft Sans Serif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Online Tuto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Instructional Vide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echnical Troubleshooting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Online chat with Technic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All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5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0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5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Microsoft Sans Serif"/>
              </a:rPr>
              <a:t>Behind the Sc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Now that you have taken a “Practice Quiz” using the remotes, lets see how we did it and what you can do now with the result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lick on the “Close” but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ay Yes to Prom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Open the “Reports” t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lect the recent test and “Generat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0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4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Microsoft Sans Serif"/>
              </a:rPr>
              <a:t>Practice Quiz Question #2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Microsoft Sans Serif"/>
              </a:rPr>
              <a:t>“Survey Question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Have you ever used the CPS eInstruction system as a participan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Y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Microsoft Sans Serif"/>
              </a:rPr>
              <a:t>Practice Quiz Question #3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Microsoft Sans Serif"/>
              </a:rPr>
              <a:t>“Anonymous Opinion Question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Are you intimidated about using this system in your classroo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Y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Microsoft Sans Serif"/>
              </a:rPr>
              <a:t>Practice Quiz Question #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Do you think students would be more likely to participate in your classes if they could share their ideas anonymousl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Y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Microsoft Sans Serif"/>
              </a:rPr>
              <a:t>Practice Quiz Question #5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Microsoft Sans Serif"/>
              </a:rPr>
              <a:t>“Ridiculous Question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If Britney Spears started dating Jack Nicholson, what do you think their celebrity couple nickname would b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Jack-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NicholSp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As Good As It 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One Flew 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he Cuckoo's N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705720" y="3657600"/>
            <a:ext cx="2106360" cy="2743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822920" y="3657600"/>
            <a:ext cx="1844640" cy="2743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75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90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Microsoft Sans Serif"/>
              </a:rPr>
              <a:t>Practice Quiz Question #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What color will your number flash if you hit the same answer repeatedl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Yel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Bl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Gre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Microsoft Sans Serif"/>
              </a:rPr>
              <a:t>Practice Quiz Question #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What button does the teacher hit when they want to end the ques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Eng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Ext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Ex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Microsoft Sans Serif"/>
              </a:rPr>
              <a:t>Practice Quiz Question #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here are two types of CPS systems.  Which one of the below is not one of th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Infra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Ra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Bluetoo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Microsoft Sans Serif"/>
              </a:rPr>
              <a:t>Practice Quiz Question #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What is the name of the company that makes the Classroom Performance System or “CPS” devic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Learning in H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Easy Cl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eIn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iK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8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3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8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3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23:40:01Z</dcterms:created>
  <dc:creator>Michael Hakkarinen</dc:creator>
  <dc:description/>
  <dc:language>en-US</dc:language>
  <cp:lastModifiedBy>fcps</cp:lastModifiedBy>
  <dcterms:modified xsi:type="dcterms:W3CDTF">2007-11-12T02:16:12Z</dcterms:modified>
  <cp:revision>10</cp:revision>
  <dc:subject/>
  <dc:title>CPS eInstruction</dc:title>
</cp:coreProperties>
</file>