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B8F-D26D-4044-8F61-2F17FC78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796-F7D6-41E7-A8B8-FAB2F0C8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E70-E72A-4F20-B8F2-8B02667C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C19-2F3B-4A60-99EA-6358EBC4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906-5FD7-4A67-8923-5F825510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9D1-04C3-4CB7-9B39-EA136326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F9A-3558-4F8A-B2E7-0ECA7026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1B0-AE69-4DB0-8AA7-4815E21B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0B6-E6EF-4BCA-9131-C4F297C2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C4A-E46A-428F-B0F6-DD088AB7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BBE-F71A-4F08-8953-E626D02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CEE-0A90-473A-93BC-32B7ECB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F8D8-D121-4B2A-9D69-2CF1675E2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1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Formative Assessme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es your school have a set of CPS response pa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kind of resources are available a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www.einstruction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icrosoft Sans Serif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Tuto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structional Vi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echnical Troubleshooting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chat with Technic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Behind the Sc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ow that you have taken a “Practice Quiz” using the remotes, lets see how we did it and what you can do now with the resul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on the “Close”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ay Yes to Prom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pen the “Reports”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lect the recent test and “Gener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2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Survey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Have you ever used the CPS eInstruction system as a participa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3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Anonymous Opinion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re you intimidated about using this system in your classro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 you think students would be more likely to participate in your classes if they could share their ideas anonymous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5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Ridiculous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f Britney Spears started dating Jack Nicholson, what do you think their celebrity couple nickname would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Jack-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icholSp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s Good As It 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ne Flew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 Cuckoo's 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10636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22920" y="3657600"/>
            <a:ext cx="18446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color will your number flash if you hit the same answer repeated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button does the teacher hit when they want to end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re are two types of CPS systems.  Which one of the below is not one of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fr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s the name of the company that makes the Classroom Performance System or “CPS” dev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Learning in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asy 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16:12Z</dcterms:modified>
  <cp:revision>10</cp:revision>
  <dc:subject/>
  <dc:title>CPS eInstruction</dc:title>
</cp:coreProperties>
</file>