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6A0-8C2E-4CAF-80C2-99DFBE72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166-1E2A-4D69-8420-183C8C7C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002-B01A-4B45-AEED-E296CAE9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31A-E691-4412-9553-6F6A75FC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DA3-65A1-436D-AD96-B17C5E90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B29-E352-463B-B30D-BDD23617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FAB-0396-411C-8682-6A8903C0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DBB-111B-4418-B33B-4E54836E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594-5F26-4260-9897-D20031F7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ADF-BC0C-4F17-878E-3867AE04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D0B-B756-46B4-8752-EC7B1755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1D5-AB8F-47E7-B2C9-59CA7F0E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B037-5992-4599-A186-B4CDD470B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instruction.com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1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Formative Assessme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Does your school have a set of CPS response pad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kind of resources are available a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Microsoft Sans Serif"/>
                <a:hlinkClick r:id="rId1"/>
              </a:rPr>
              <a:t>www.einstruction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icrosoft Sans Serif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Online Tuto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structional Vi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echnical Troubleshooting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Online chat with Technic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Behind the Sc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Now that you have taken a “Practice Quiz” using the remotes, lets see how we did it and what you can do now with the resul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on the “Close”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ay Yes to Prom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pen the “Reports”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lect the recent test and “Genera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2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Survey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Have you ever used the CPS eInstruction system as a participa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3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Anonymous Opinion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Are you intimidated about using this system in your classro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Do you think students would be more likely to participate in your classes if they could share their ideas anonymous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5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Ridiculous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f Britney Spears started dating Jack Nicholson, what do you think their celebrity couple nickname would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Jack-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NicholSp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s Good As It 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ne Flew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 Cuckoo's 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10636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22920" y="3657600"/>
            <a:ext cx="184464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at color will your number flash if you hit the same answer repeated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at button does the teacher hit when they want to end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ng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x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x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re are two types of CPS systems.  Which one of the below is not one of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fr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Blue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is the name of the company that makes the Classroom Performance System or “CPS” dev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Learning in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asy C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7-11-12T02:16:12Z</dcterms:modified>
  <cp:revision>10</cp:revision>
  <dc:subject/>
  <dc:title>CPS eInstruction</dc:title>
</cp:coreProperties>
</file>