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E06C-D822-4D72-9F8A-91FC02C8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EAFD-3369-4BFF-B45B-520C1C11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A507-1FB7-4377-A204-592B3FB7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CDC2-CEE1-43EA-B6CE-053781B0F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1FCC-A584-4A52-850F-7F15C38B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4CD4-67CD-4B56-8FDC-40C31938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AC12-A92D-4826-A970-581B1EB4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E396-0627-4C01-80AB-C3966727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E9F1-22C7-49C8-B272-43CD2821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E20C-2880-494C-850E-0E810955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7C38-5523-46ED-98C3-EE4AB60F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CA5F-7548-467B-9F34-1932E8B3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A358-22F4-41E5-886B-63E01FADB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instruction.com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Practice Quiz Question #1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“Formative Assessment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Does your school have a set of CPS response pad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What kind of resources are available at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Microsoft Sans Serif"/>
                <a:hlinkClick r:id="rId1"/>
              </a:rPr>
              <a:t>www.einstruction.c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icrosoft Sans Serif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Online Tuto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Instructional Vide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echnical Troubleshooting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Online chat with Technic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Behind the Sc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Now that you have taken a “Practice Quiz” using the remotes, lets see how we did it and what you can do now with the result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lick on the “Close” but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ay Yes to Prom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Open the “Reports” t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lect the recent test and “Genera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Practice Quiz Question #2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“Survey Questio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Have you ever used the CPS eInstruction system as a participa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Practice Quiz Question #3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“Anonymous Opinion Questio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Are you intimidated about using this system in your classroo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Do you think students would be more likely to participate in your classes if they could share their ideas anonymousl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Practice Quiz Question #5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“Ridiculous Questio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f Britney Spears started dating Jack Nicholson, what do you think their celebrity couple nickname would 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Jack-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NicholSp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As Good As It 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One Flew 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e Cuckoo's N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705720" y="3657600"/>
            <a:ext cx="2106360" cy="2743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22920" y="3657600"/>
            <a:ext cx="1844640" cy="2743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What color will your number flash if you hit the same answer repeatedl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Yel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What button does the teacher hit when they want to end the ques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Eng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Ext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Ex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ere are two types of CPS systems.  Which one of the below is not one of th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nfra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Blueto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What is the name of the company that makes the Classroom Performance System or “CPS” devi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Learning in H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Easy Cl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e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3:40:01Z</dcterms:created>
  <dc:creator>Michael Hakkarinen</dc:creator>
  <dc:description/>
  <dc:language>en-US</dc:language>
  <cp:lastModifiedBy>fcps</cp:lastModifiedBy>
  <dcterms:modified xsi:type="dcterms:W3CDTF">2007-11-12T02:16:12Z</dcterms:modified>
  <cp:revision>10</cp:revision>
  <dc:subject/>
  <dc:title>CPS eInstruction</dc:title>
</cp:coreProperties>
</file>