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B52-5B1D-4C14-BD6E-636E7D31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D43-3ADA-426F-AC11-1C4E2D4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8DC-9486-4DDA-A345-824572D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E21-2F6B-4531-BA7B-B96173C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A92-87B8-4699-9CBC-A609B8A8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259-B149-44D5-9D3D-AD07AB5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EA0-E93F-4213-B75F-CDF917A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626-7287-4D50-B702-7F5613F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15F-6CD7-442A-96AF-B26ADC4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92D-46BE-479C-BD7B-671507B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9A9-49F7-4848-8D0B-695579DB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CF0-0396-4543-A095-B07690A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2114-97BB-4912-A8C9-E1FEDA3E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icrosoft Sans Serif"/>
              </a:rPr>
              <a:t>CPS eInstr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n_circlepads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15952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6280" y="2514600"/>
            <a:ext cx="371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icrosoft Sans Serif"/>
              </a:rPr>
              <a:t>And Easy to U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USB Recei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495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B Connection plugs into computer (carefu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eceiver needs to be positioned in a convenient location for students to orient to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62160" cy="3962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Morning To Do L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9466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7680" y="1636560"/>
            <a:ext cx="519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practi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 up class for a grad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ake a graded test with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uild your own CPS database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ith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reate your own mini-quiz with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xam View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oday we will spend the morning learning about eInstruction’s CPS student response pad system and how to integrate it with Exam View item bank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560" y="52578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ichael Hakkar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icrosoft Sans Serif"/>
              </a:rPr>
              <a:t>Technology Resource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icrosoft Sans Serif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Lynn Carr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Kathleen Wack, Curriculum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Emmitsburg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Sarah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Catoctin High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Amy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Dana B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Thurmont Middle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Heather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Erin McG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Lewistown Elem = </a:t>
            </a:r>
            <a:r>
              <a:rPr b="0" lang="en-US" sz="2000" spc="-1" strike="noStrike">
                <a:solidFill>
                  <a:srgbClr val="000099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Joe Bas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Middletown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Patricia F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Centerville Elem = </a:t>
            </a:r>
            <a:r>
              <a:rPr b="0" lang="en-US" sz="2000" spc="-1" strike="noStrike">
                <a:solidFill>
                  <a:srgbClr val="008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Gary Burg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ch Resource Teachers = 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Microsoft Sans Serif"/>
              </a:rPr>
              <a:t>Michael Hakkar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Microsoft Sans Serif"/>
              </a:rPr>
              <a:t>Jesse Wisn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3880" y="1523880"/>
            <a:ext cx="31669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Reasoning for “CPS 4 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95288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93688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38140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8120" y="5268960"/>
            <a:ext cx="2447640" cy="110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080" y="11430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&amp; Kath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27360" y="1717560"/>
            <a:ext cx="55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PS purchased for the new Tuscarora Elementary School.  Started using wit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grade class that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school"/>
          <p:cNvPicPr/>
          <p:nvPr/>
        </p:nvPicPr>
        <p:blipFill>
          <a:blip r:embed="rId2"/>
          <a:stretch/>
        </p:blipFill>
        <p:spPr>
          <a:xfrm>
            <a:off x="685800" y="3581280"/>
            <a:ext cx="1905120" cy="134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365760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Used CPS as a tool in the computer lab with classes from Grade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My Experience with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6576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676520"/>
            <a:ext cx="3200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2006-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Instruction become a weekly part of my classroom instruc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tudents love using the pads and are actually excited when we take a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5440" y="5451480"/>
            <a:ext cx="51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iss Petela, a Freshman from Mount Saint Mary’s College, uses CPS with the class as a math warm-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Microsoft Sans Serif"/>
              </a:rPr>
              <a:t>By the end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wnload and install the CPS system on a computer in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database from which to run CPS activities, lessons, an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class for your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reate a lesson to use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ractice operating a lesson with the C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e excited about introducing your students to this new tool for your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7800" y="11430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Microsoft Sans Serif"/>
              </a:rPr>
              <a:t>of this workshop you will be ready and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Response Pad Care &amp; 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76520"/>
            <a:ext cx="557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 CPS response pad is a tool, not a toy.  Please do not bang on it, throw it, chew on it, or use it for a doorstop!  Treat it with the same care and respect that would show to your own TV or DVD remot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Be nice to your response pad, and your response pad will be nic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04080" y="2895480"/>
            <a:ext cx="2759040" cy="355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icrosoft Sans Serif"/>
              </a:rPr>
              <a:t>Anatomy of the Response P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038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8 Buttons, 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ads need 2 AAA batteries (inclu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ach pad is numbered and sends it’s own individual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frared lights at top should be pointed at the blu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24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25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05:17Z</dcterms:modified>
  <cp:revision>12</cp:revision>
  <dc:subject/>
  <dc:title>CPS eInstruction</dc:title>
</cp:coreProperties>
</file>