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A63-71FF-4E8B-9CF9-6A08235F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AEC-440B-41FD-AE8C-46D041CF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C70-9F86-4EC1-8ACD-3AA23CE0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868-34CC-4179-8C0B-7745DEFD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841-6CF6-46BA-8BD6-E92B38FF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BA2-8F88-407E-8F6A-EF42AC9E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A58-F760-4BD0-886A-75ECF9F3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611-A5F7-4EF7-9C42-516BC545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735-6D5B-4703-A854-CAEE11BA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5DC-A23A-45D7-A60E-DBF3630A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E98-22B2-42C0-A4FD-6CAAC05E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FFB-9E80-4312-8A1D-2FCAE54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6E7A-299A-4DE4-98AA-8696E6F2E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icrosoft Sans Serif"/>
              </a:rPr>
              <a:t>CPS eInstr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n_circlepads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15952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6280" y="2514600"/>
            <a:ext cx="371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And Easy to 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USB Recei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4495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B Connection plugs into computer (carefu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eceiver needs to be positioned in a convenient location for students to orient to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Morning To Do Li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9466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7680" y="1636560"/>
            <a:ext cx="519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practic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 up class for a grade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graded test with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uild your own CPS database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ith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reate your own mini-quiz with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xam View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oday we will spend the morning learning about eInstruction’s CPS student response pad system and how to integrate it with Exam View item bank ques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560" y="52578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ichael Hakkar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icrosoft Sans Serif"/>
              </a:rPr>
              <a:t>Technology Resource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Introduct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Lynn Carr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Kathleen Wack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Emmitsburg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Sarah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Catoctin High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Amy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Dana B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Thurmont Middle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Heather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Erin McG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Lewistown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Joe Ba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Middletown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Patricia F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Centerville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Gary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ch Resource Teachers = 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Michael Hakkar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Jesse Wisn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3880" y="1523880"/>
            <a:ext cx="31669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Reasoning for “CPS 4 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952880" cy="345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93688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381400" cy="206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048120" y="5268960"/>
            <a:ext cx="2447640" cy="110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080" y="114300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n &amp; Kath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27360" y="1717560"/>
            <a:ext cx="55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PS purchased for the new Tuscarora Elementary School.  Started using wit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grade class that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school"/>
          <p:cNvPicPr/>
          <p:nvPr/>
        </p:nvPicPr>
        <p:blipFill>
          <a:blip r:embed="rId2"/>
          <a:stretch/>
        </p:blipFill>
        <p:spPr>
          <a:xfrm>
            <a:off x="685800" y="3581280"/>
            <a:ext cx="1905120" cy="134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365760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ed CPS as a tool in the computer lab with classes from Grade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My 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6576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1676520"/>
            <a:ext cx="3200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2006-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Instruction become a weekly part of my classroom instruc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tudents love using the pads and are actually excited when we take a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5440" y="5451480"/>
            <a:ext cx="51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iss Petela, a Freshman from Mount Saint Mary’s College, uses CPS with the class as a math warm-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Microsoft Sans Serif"/>
              </a:rPr>
              <a:t>By the end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ownload and install the CPS system on a computer in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database from which to run CPS activities, lessons, and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class for your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lesson to use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actice operating a lesson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e excited about introducing your students to this new tool for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7800" y="1143000"/>
            <a:ext cx="79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Microsoft Sans Serif"/>
              </a:rPr>
              <a:t>of this workshop you will be ready and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Response Pad Care &amp; 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76520"/>
            <a:ext cx="557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CPS response pad is a tool, not a toy.  Please do not bang on it, throw it, chew on it, or use it for a doorstop!  Treat it with the same care and respect that would show to your own TV or DVD remo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e nice to your response pad, and your response pad will be nic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04080" y="2895480"/>
            <a:ext cx="2759040" cy="3559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Response P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038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8 Buttons, 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ads need 2 AAA batteries (in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pad is numbered and sends it’s own individual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frared lights at top should be pointed at the blu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249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05:17Z</dcterms:modified>
  <cp:revision>12</cp:revision>
  <dc:subject/>
  <dc:title>CPS eInstruction</dc:title>
</cp:coreProperties>
</file>