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347-BD31-4C4D-A8F4-5A0BC72F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605-4318-4BB1-8E83-1F70A3F7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CDD-044F-4DED-B973-B820ADF3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D5B-337C-42F4-A265-6CAFDAEB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005-C7CF-4DAE-9E7A-F7489537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715-6DA7-4FC8-9744-9FD71B07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A34-7C8B-4EFB-92F1-88989C4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DC6-1173-438E-9938-A596F463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625-CC9B-4316-AC07-CA3DE520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368-CC77-40EC-9562-21BEBF36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A5B-23BC-4056-9B88-34FC5DC1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B26-CC14-4262-8CAA-FCBC6923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C26C-7B47-43E8-A1E3-A582E2242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instruction.com/Downloads/index.cfm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einstruction.com/Solutions/K12/index.cfm" TargetMode="External"/><Relationship Id="rId7" Type="http://schemas.openxmlformats.org/officeDocument/2006/relationships/hyperlink" Target="http://www.einstruction.com/Solutions/K12/index.cfm" TargetMode="External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Microsoft Sans Serif"/>
              </a:rPr>
              <a:t>CPS eInstr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15952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6280" y="2514600"/>
            <a:ext cx="371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Wir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ng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And Easy to U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066680"/>
            <a:ext cx="47246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Phys Ed In-service, August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Getting Started with C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143000"/>
            <a:ext cx="8991720" cy="609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Determine if your school has a set of CPS rem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Have your schools Technology Coordinator install the CPS software from the web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Microsoft Sans Serif"/>
                <a:hlinkClick r:id="rId1"/>
              </a:rPr>
              <a:t>http://www.einstruction.com/Downloads/index.c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Start the CPS Program and follow the “Getting Started” tips on the first window that app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For assistance, contact your school’s Technology Resource Teacher for help with planning and implementing CPS less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You can also access finished lessons at the CPS4PE wi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http://cps4pe.wikispac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Welc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oday we will talk about eInstruction’s CPS student response pad system and how to use it wi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xa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reate Lessons in the CP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81680" y="32004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5560" y="5257800"/>
            <a:ext cx="47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ichael Hakkar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icrosoft Sans Serif"/>
              </a:rPr>
              <a:t>Technology Resource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Frederick County Public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Pilot Progra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Lynn Carr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Kathleen Wack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Emmitsburg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Sarah Pal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Catoctin High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Amy Mu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Dana B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Thurmont Middle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Heather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Erin McGr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Lewistown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Joe Bas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Centerville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Gary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ch Resource Teachers = 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Michael Hakkar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73880" y="1523880"/>
            <a:ext cx="316692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3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Reasoning for “CPS 4 P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4952880" cy="345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936880" cy="40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2381400" cy="206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819520" y="4876920"/>
            <a:ext cx="2447640" cy="11030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/>
          </p:cNvPr>
          <p:cNvSpPr/>
          <p:nvPr/>
        </p:nvSpPr>
        <p:spPr>
          <a:xfrm>
            <a:off x="1965240" y="6289560"/>
            <a:ext cx="47404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Link to Flash Video at CPS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27360" y="1717560"/>
            <a:ext cx="557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4-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PS purchased for the new Tuscarora Elementary School.  Started using wit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grade class that w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school"/>
          <p:cNvPicPr/>
          <p:nvPr/>
        </p:nvPicPr>
        <p:blipFill>
          <a:blip r:embed="rId2"/>
          <a:stretch/>
        </p:blipFill>
        <p:spPr>
          <a:xfrm>
            <a:off x="685800" y="3581280"/>
            <a:ext cx="1905120" cy="134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19520" y="365760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5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ed CPS as a tool in the computer lab with classes from Grades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My 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6576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1676520"/>
            <a:ext cx="3200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2006-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Instruction become a weekly part of my classroom instruc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tudents love using the pads and are actually excited when we take a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65440" y="5451480"/>
            <a:ext cx="512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Miss Petela, a Freshman from Mount Saint Mary’s College, uses CPS with the class as a math warm-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icrosoft Sans Serif"/>
              </a:rPr>
              <a:t>Response Pad Care &amp; 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76520"/>
            <a:ext cx="557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CPS response pad is a tool, not a toy.  Please do not bang on it, throw it, chew on it, or use it for a doorstop!  Treat it with the same care and respect that would show to your own TV or DVD remot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e nice to your response pad, and your response pad will be nice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04080" y="2895480"/>
            <a:ext cx="2759040" cy="3559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Response P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40384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8 Buttons, A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ads need 2 AAA batteries (inclu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pad is numbered and sends it’s own individual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frared lights at top should be pointed at the blue rece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2495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USB Recei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752480"/>
            <a:ext cx="44956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B Connection plugs into computer (carefu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Receiver needs to be positioned in a convenient location for students to orient to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62160" cy="396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8-08-20T01:41:05Z</dcterms:modified>
  <cp:revision>14</cp:revision>
  <dc:subject/>
  <dc:title>CPS eInstruction</dc:title>
</cp:coreProperties>
</file>