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3DE-70F4-46AA-9950-D5775FFD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B03-0006-4604-86BC-E14B780A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18E-09EA-4B74-AFA6-138190A6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A61-2BCC-4D6C-A43F-B686F366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351-08AE-4222-BB70-D224D140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E42-1D50-4C9D-83EB-9D5C972B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3D6-1133-418C-9BA4-1262317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D88-2A77-450E-8BD1-8A54510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B0C-5B27-4439-9EF6-86057C8D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BFE-0739-48F9-B66E-964C7BE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BE6-541A-4218-8506-F205A73D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D18-F00B-4D55-AD2C-B94F0CC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F626-3D9D-44AE-9979-EBBF744D1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Downloads/index.cf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instruction.com/Solutions/K12/index.cfm" TargetMode="External"/><Relationship Id="rId7" Type="http://schemas.openxmlformats.org/officeDocument/2006/relationships/hyperlink" Target="http://www.einstruction.com/Solutions/K12/index.cfm" TargetMode="External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066680"/>
            <a:ext cx="47246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Phys Ed In-service, August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Getting Started with C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143000"/>
            <a:ext cx="8991720" cy="609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Determine if your school has a set of CPS rem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Have your schools Technology Coordinator install the CPS software from the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http://www.einstruction.com/Downloads/index.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Start the CPS Program and follow the “Getting Started” tips on the first window that 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For assistance, contact your school’s Technology Resource Teacher for help with planning and implementing CPS less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You can also access finished lessons at the CPS4PE w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http://cps4pe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talk about eInstruction’s CPS student response pad system and how to use it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Lessons in the CP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Pilot Progr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819520" y="4876920"/>
            <a:ext cx="2447640" cy="1103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/>
          </p:cNvPr>
          <p:cNvSpPr/>
          <p:nvPr/>
        </p:nvSpPr>
        <p:spPr>
          <a:xfrm>
            <a:off x="1965240" y="6289560"/>
            <a:ext cx="47404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Link to Flash Video at CP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8-08-20T01:41:05Z</dcterms:modified>
  <cp:revision>14</cp:revision>
  <dc:subject/>
  <dc:title>CPS eInstruction</dc:title>
</cp:coreProperties>
</file>