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7A5-9B79-4A9B-9119-4AB493D9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B71-ACDD-42C2-9654-0D88A60D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2A6-0C61-4E71-B28F-DAE9C42A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29B-6E5A-42FE-988F-51D4889F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3C7-3F81-44FC-80DF-9535EDE2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B77-929F-47BE-8182-7CE083AB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862-FA65-447C-B18B-CE9ADEEE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DA8-8B07-4777-8A2E-6B507CC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D75-F483-4245-9E4F-F5A9E62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C5A-950B-4A58-92E7-0C9383B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ACB-0052-4F3A-8B99-38AB899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96F-1905-4CD0-864E-062FDF0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FF15-95C5-407F-B64B-EC8B87FB4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Downloads/index.cf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instruction.com/Solutions/K12/index.cfm" TargetMode="External"/><Relationship Id="rId7" Type="http://schemas.openxmlformats.org/officeDocument/2006/relationships/hyperlink" Target="http://www.einstruction.com/Solutions/K12/index.cfm" TargetMode="External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066680"/>
            <a:ext cx="47246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Phys Ed In-service, August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Getting Started with C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143000"/>
            <a:ext cx="8991720" cy="609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Determine if your school has a set of CPS rem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Have your schools Technology Coordinator install the CPS software from the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http://www.einstruction.com/Downloads/index.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Start the CPS Program and follow the “Getting Started” tips on the first window that 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For assistance, contact your school’s Technology Resource Teacher for help with planning and implementing CPS less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You can also access finished lessons at the CPS4PE wi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</a:rPr>
              <a:t>http://cps4pe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talk about eInstruction’s CPS student response pad system and how to use it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Lessons in the CP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Pilot Progra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819520" y="4876920"/>
            <a:ext cx="2447640" cy="11030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/>
          </p:cNvPr>
          <p:cNvSpPr/>
          <p:nvPr/>
        </p:nvSpPr>
        <p:spPr>
          <a:xfrm>
            <a:off x="1965240" y="6289560"/>
            <a:ext cx="47404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Link to Flash Video at CPS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8-08-20T01:41:05Z</dcterms:modified>
  <cp:revision>14</cp:revision>
  <dc:subject/>
  <dc:title>CPS eInstruction</dc:title>
</cp:coreProperties>
</file>