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462-70B6-4022-A9A8-B94AEA18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50A-AD12-4F52-9D0A-1092F584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8F8-FDDF-462E-9B7D-04E7022C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BE0-16C3-48D1-A4F2-BEFBBCEE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26C-F59E-4A64-92AD-9E3AF95F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637-FA29-4A5F-8CEE-7A36530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F73-672F-4E3F-9639-344FEF3F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954-5BFD-47DC-A864-B203F857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E48-B30F-4D98-8EBD-9899AB31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738-0DB5-42F6-B0E5-3CA58BF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279-CDD7-43A9-A269-65350E93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E91-A2BC-4455-AE34-97DB2626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26C-F789-4913-98E5-BE863188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Downloads/index.cf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instruction.com/Solutions/K12/index.cfm" TargetMode="External"/><Relationship Id="rId7" Type="http://schemas.openxmlformats.org/officeDocument/2006/relationships/hyperlink" Target="http://www.einstruction.com/Solutions/K12/index.cfm" TargetMode="External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066680"/>
            <a:ext cx="47246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Phys Ed In-service, August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Getting Started with C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143000"/>
            <a:ext cx="8991720" cy="609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Determine if your school has a set of CPS rem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Have your schools Technology Coordinator install the CPS software from the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http://www.einstruction.com/Downloads/index.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Start the CPS Program and follow the “Getting Started” tips on the first window that 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For assistance, contact your school’s Technology Resource Teacher for help with planning and implementing CPS less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You can also access finished lessons at the CPS4PE wi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http://cps4pe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talk about eInstruction’s CPS student response pad system and how to use it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Lessons in the CP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Pilot Progra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819520" y="4876920"/>
            <a:ext cx="2447640" cy="1103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/>
          </p:cNvPr>
          <p:cNvSpPr/>
          <p:nvPr/>
        </p:nvSpPr>
        <p:spPr>
          <a:xfrm>
            <a:off x="1965240" y="6289560"/>
            <a:ext cx="47404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Link to Flash Video at CPS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8-08-20T01:41:05Z</dcterms:modified>
  <cp:revision>14</cp:revision>
  <dc:subject/>
  <dc:title>CPS eInstruction</dc:title>
</cp:coreProperties>
</file>