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807-73E4-48CA-8A6D-439FF62B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F25-DA4D-4CB7-B3DE-A0A12C1F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7E5-5233-40D4-8209-DB6E0484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46B-D4D9-4657-B71D-0186696E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57A-DC74-49E8-A835-956555A8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6BC-C55D-4320-ABA5-E7F7DEF8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381-B44E-45A7-BF78-8605C975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FCC-B0F1-409F-96DB-F9CCA469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B70-4FC6-48BB-9B33-D5D98D22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6BD-895F-4105-B34A-17DC9A4A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FCF-7631-4DC4-98DB-6F474FC1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B4E-27AC-4370-86DE-03E4C960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9BA1-F63D-4971-804F-31B53B8DF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Microsoft Sans Serif"/>
              </a:rPr>
              <a:t>CPS eInstr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n_circlepads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15952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6280" y="2514600"/>
            <a:ext cx="371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ng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And Easy to 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USB Recei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4495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B Connection plugs into computer (carefu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Receiver needs to be positioned in a convenient location for students to orient to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62160" cy="3962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Morning To Do Li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294660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7680" y="1636560"/>
            <a:ext cx="519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practic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t up class for a grade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graded test with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uild your own CPS database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ith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reate your own mini-quiz with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xam View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Wel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oday we will spend the morning learning about eInstruction’s CPS student response pad system and how to integrate it with Exam View item bank ques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560" y="52578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ichael Hakkar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icrosoft Sans Serif"/>
              </a:rPr>
              <a:t>Technology Resource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Introduct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Lynn Carr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Kathleen Wack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Emmitsburg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Sarah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Catoctin High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Amy 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Dana B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Thurmont Middle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Heather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Erin McGr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Lewistown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Joe Ba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Middletown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Patricia F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Centerville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Gary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ch Resource Teachers = 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Michael Hakkar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Jesse Wisn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3880" y="1523880"/>
            <a:ext cx="316692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Reasoning for “CPS 4 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952880" cy="345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93688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381400" cy="206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048120" y="5268960"/>
            <a:ext cx="2447640" cy="110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00080" y="114300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n &amp; Kath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27360" y="1717560"/>
            <a:ext cx="55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4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PS purchased for the new Tuscarora Elementary School.  Started using wit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grade class that w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school"/>
          <p:cNvPicPr/>
          <p:nvPr/>
        </p:nvPicPr>
        <p:blipFill>
          <a:blip r:embed="rId2"/>
          <a:stretch/>
        </p:blipFill>
        <p:spPr>
          <a:xfrm>
            <a:off x="685800" y="3581280"/>
            <a:ext cx="1905120" cy="134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365760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ed CPS as a tool in the computer lab with classes from Grade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My 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6576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1676520"/>
            <a:ext cx="3200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2006-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Instruction become a weekly part of my classroom instruc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tudents love using the pads and are actually excited when we take a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5440" y="5451480"/>
            <a:ext cx="51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iss Petela, a Freshman from Mount Saint Mary’s College, uses CPS with the class as a math warm-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Microsoft Sans Serif"/>
              </a:rPr>
              <a:t>By the end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ownload and install the CPS system on a computer in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database from which to run CPS activities, lessons, and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class for your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lesson to use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actice operating a lesson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e excited about introducing your students to this new tool for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7800" y="1143000"/>
            <a:ext cx="79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Microsoft Sans Serif"/>
              </a:rPr>
              <a:t>of this workshop you will be ready and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icrosoft Sans Serif"/>
              </a:rPr>
              <a:t>Response Pad Care &amp; 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76520"/>
            <a:ext cx="557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CPS response pad is a tool, not a toy.  Please do not bang on it, throw it, chew on it, or use it for a doorstop!  Treat it with the same care and respect that would show to your own TV or DVD remot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e nice to your response pad, and your response pad will be nic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04080" y="2895480"/>
            <a:ext cx="2759040" cy="3559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Response P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038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8 Buttons, A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ads need 2 AAA batteries (in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pad is numbered and sends it’s own individual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frared lights at top should be pointed at the blu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249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05:17Z</dcterms:modified>
  <cp:revision>12</cp:revision>
  <dc:subject/>
  <dc:title>CPS eInstruction</dc:title>
</cp:coreProperties>
</file>