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069-FE4D-40D4-A432-30E410C9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335-D8B7-418C-B1B3-E9D3E314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D9E-80A6-4C7F-84EA-CF5AECB9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01E-3DD6-46AE-9621-A58DA372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DB0-B494-410D-9903-5348A1DF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EBA-567D-4DC9-AAA3-BC21BE2D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DBE-AAD9-40B4-AD80-15798FF4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8E4-B00E-4220-B499-319E2F32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BF1-8480-4D2A-AAB7-C4D0BB11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326-88CA-479F-BFE0-889B895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585-4799-4C36-989B-D5E2812A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7B2-F507-45AA-A14D-319EFF3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415C-6446-4926-9EC5-4540D038D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n_circlepads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Morning To Do L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9466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7680" y="1636560"/>
            <a:ext cx="519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practic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 up class for a grad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graded test with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uild your own CPS database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ith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your own mini-quiz with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spend the morning learning about eInstruction’s CPS student response pad system and how to integrate it with Exam View item bank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Introdu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Middletown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Patricia F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Jesse Wisn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48120" y="5268960"/>
            <a:ext cx="2447640" cy="110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080" y="11430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 &amp; Kath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Microsoft Sans Serif"/>
              </a:rPr>
              <a:t>By the end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ownload and install the CPS system on a computer in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database from which to run CPS activities, lessons, an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class for your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lesson to use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actice operating a lesson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e excited about introducing your students to this new tool for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7800" y="1143000"/>
            <a:ext cx="79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Microsoft Sans Serif"/>
              </a:rPr>
              <a:t>of this workshop you will be ready and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05:17Z</dcterms:modified>
  <cp:revision>12</cp:revision>
  <dc:subject/>
  <dc:title>CPS eInstruction</dc:title>
</cp:coreProperties>
</file>