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D49-B167-46EF-BEDD-52A36BFE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BCA-9B46-45B6-A94A-8F92A9B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36F-1F17-4062-8455-0FBBD101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0B7-742F-4FB9-A666-79BD08B8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65F-AD41-4839-9968-9C070A36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16C-A63A-48FA-B526-D579CB7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D79-A778-4C8A-8126-E08F4AD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F70-08B1-4963-B469-9507247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9EA-69C7-4611-9517-EDA3662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39E-A603-4E98-9489-85EA75E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8DF-45B6-4A27-99B8-3C408EC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76D-6CC5-4AE9-B09C-8FA6FB2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7FCD-9A50-409D-A10A-3006446D3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n_circlepads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Morning To Do L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9466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7680" y="1636560"/>
            <a:ext cx="519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practi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 up class for a grad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graded test with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uild your own CPS database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ith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your own mini-quiz with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spend the morning learning about eInstruction’s CPS student response pad system and how to integrate it with Exam View item bank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Middletown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Patricia F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Jesse Wisn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8120" y="5268960"/>
            <a:ext cx="2447640" cy="110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080" y="11430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&amp; Kath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Microsoft Sans Serif"/>
              </a:rPr>
              <a:t>By the end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wnload and install the CPS system on a computer in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database from which to run CPS activities, lessons, an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class for your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lesson to use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actice operating a lesson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e excited about introducing your students to this new tool for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7800" y="11430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Microsoft Sans Serif"/>
              </a:rPr>
              <a:t>of this workshop you will be ready and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05:17Z</dcterms:modified>
  <cp:revision>12</cp:revision>
  <dc:subject/>
  <dc:title>CPS eInstruction</dc:title>
</cp:coreProperties>
</file>