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EF6C-22A7-4CC2-8756-55EBD56D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542-EC35-4285-BED3-5CAE26AE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AC95-3EE5-4167-A5C7-EBF503D0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1D72-4131-4B15-8C2C-F3F10BBC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68A3-4559-4C20-A2B4-40F1DC3D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DD48-1C2C-44CD-A207-4F83DF01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49DA-A575-4471-A7B3-5677454C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3C20-4696-4805-A038-DF9FA344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19CB-8933-4B90-B00D-B725050B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F883-7E33-48EE-9E9C-5F842DA5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B358-8D6D-41DD-A306-34096E01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7B2-76A8-41ED-B28F-EF7BF92B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FA67-3154-4A01-A53A-5C5BB6D0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5C19-A505-423C-9C9D-55E976E9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4EDD-FFD7-4E78-8088-ED45BBE5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DF33-CA95-4112-9F08-BC294009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C59B-9387-4371-B656-339292B1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5DE-23A0-4051-9355-30FDE4B2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74C-0D4B-416F-ABA9-C46DE2DA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8DEC-8F76-4CDF-A561-E8061D9A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DDCC-5859-4B7D-982D-53AE6F63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3AF9-699C-4D5E-960C-2C3A4B8A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66AC-63FE-4A62-B493-B5214282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362-6962-440D-8AE3-8B8C12F5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1E8F-4537-40CF-9A67-D7B838B47B14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284E-A029-4FC4-9A6E-271B8C90D0ED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.  Alcohol is a drug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Tru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als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9. Some effects of marijuana include EXCEPT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Microsoft Sans Serif"/>
              </a:rPr>
              <a:t>Problems with memory and learning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Microsoft Sans Serif"/>
              </a:rPr>
              <a:t>Trouble with thinking and problem solving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Microsoft Sans Serif"/>
              </a:rPr>
              <a:t>Decreased anxiety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Microsoft Sans Serif"/>
              </a:rPr>
              <a:t>Increased heart rat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9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0. </a:t>
            </a:r>
            <a:r>
              <a:rPr b="1" lang="en-US" sz="3200" spc="-1" strike="noStrike">
                <a:solidFill>
                  <a:srgbClr val="061c62"/>
                </a:solidFill>
                <a:latin typeface="Times New Roman"/>
              </a:rPr>
              <a:t>Harvard University researchers report the risk of a heart attack is __________________ than usual in the hour after smoking marijuana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0 times higher</a:t>
            </a: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	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2 times highe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4 times highe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5 times highe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0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1. </a:t>
            </a:r>
            <a:r>
              <a:rPr b="0" lang="en-US" sz="3200" spc="-1" strike="noStrike">
                <a:solidFill>
                  <a:srgbClr val="061c62"/>
                </a:solidFill>
                <a:latin typeface="Times New Roman"/>
              </a:rPr>
              <a:t>There have been over 7,000 published scientific and medical studies documenting the damage that marijuana poses. Not one study has shown marijuana to be safe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Tru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als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1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2. You can die the first time you try inhalants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Tru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als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2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3. Other side effects of using inhalants include EXCEPT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Hearing loss</a:t>
            </a: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	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Muscle spasms/seizure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Improved eyesight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Brain damag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3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4. </a:t>
            </a:r>
            <a:r>
              <a:rPr b="0" lang="en-US" sz="3200" spc="-1" strike="noStrike">
                <a:solidFill>
                  <a:srgbClr val="061c62"/>
                </a:solidFill>
                <a:latin typeface="Times New Roman"/>
              </a:rPr>
              <a:t>Sniffing highly concentrated amounts of the chemicals in solvents or aerosol sprays can directly induce heart failure and death within minutes of a session of repeated inhalations. This syndrome, known as</a:t>
            </a: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Sudden Sniffing Death Syndrom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Accidental Sniffing Death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Untimely Death Syndrom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Sniffing Overload Death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4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5. Cocaine, nicotine, and caffeine are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 all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Stimulants</a:t>
            </a: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	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Depressant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5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6. Alcohol, GHB, and barbiturates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 are all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Stimulants</a:t>
            </a: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	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Depressant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6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2.  Coffee and cold showers help you sober up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Tru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als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3.  What are internal pressures?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the media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parent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inside yourself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your friend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4.  What are external pressures?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inside yourself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outside sources like peers, the media, and parent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5. </a:t>
            </a: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All of the answers below are short </a:t>
            </a:r>
            <a:br>
              <a:rPr sz="3200"/>
            </a:b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term effects of alcohol EXCEPT for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Loss of judgmen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Loss of coordinatio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Slurred speech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Improved intelligenc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5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6. </a:t>
            </a: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Mothers who drink alcohol during pregnancy may give birth to infants with _____________________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Child alcohol trauma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etal alcohol syndrom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Youth alcohol risk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etal abnormal syndrom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6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7. </a:t>
            </a: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More than _____________ U.S. deaths are caused by excessive alcohol consumption each year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10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1,000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10,000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100,000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7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8. </a:t>
            </a: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Long-term effects of consuming large quantities of alcohol can lead to EXCEPT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High blood pressur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Lowered resistance to diseas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Several different types of cance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Improvements in mental and physical health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8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9. </a:t>
            </a: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Continuing to smoke marijuana can lead to ___________ of lung tissue </a:t>
            </a:r>
            <a:br>
              <a:rPr sz="3200"/>
            </a:b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injured or destroyed by marijuana </a:t>
            </a:r>
            <a:br>
              <a:rPr sz="3200"/>
            </a:b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smoke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Abnormal functioning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Improved functioning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Mainstreamed functioning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Typical functioning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9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02:22:45Z</dcterms:created>
  <dc:creator>FCPS</dc:creator>
  <dc:description/>
  <dc:language>en-US</dc:language>
  <cp:lastModifiedBy>FCPS</cp:lastModifiedBy>
  <dcterms:modified xsi:type="dcterms:W3CDTF">2008-02-20T19:17:17Z</dcterms:modified>
  <cp:revision>10</cp:revision>
  <dc:subject/>
  <dc:title>Family Life Unit – Grade 5</dc:title>
</cp:coreProperties>
</file>