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093-D1B9-4BD6-900F-4D0F3056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38C-9221-40A0-8909-EC37B0A7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AB9-E48F-4C7E-B9FC-EF9BD5AF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003-4214-4181-8C60-85D74DC7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CE3C-3A2C-4EC8-A322-DDB77950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5822-00E6-43BD-9ACE-16DF070B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7171-8989-478B-9C0F-FCBBE550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0C96-9F38-46AF-9EAB-C92BB3A6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28A7-C933-475D-B48E-9BE8CA27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0DDC-864F-42B6-988E-BC5E566B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B3BA-F322-4BA4-B976-CCC08D96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A3A-B625-4871-B536-6017A25A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22AD-06B6-4FAE-853D-A01D084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9DE6-A100-4CA9-A562-139B0C8C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EBE4-F98B-472A-8A82-4E29A40F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BE05-C299-4539-96AA-5729737A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417A-1CEA-4251-8777-94778051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257-FC57-4B28-B84B-E86F4771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283-BED7-4320-8607-EEBB0368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D57-7466-4370-8BC8-4CC02EDE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8F9-DA88-431A-8520-10492F24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6F8-617C-4E18-8354-874208B7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842-D71E-4A10-B37E-6E88854B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E9A-370D-495A-B66B-61368968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673A-39A1-46C8-A4BD-822FFEE3350B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07E3-478D-4ECD-B86E-C8EBD247B087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.  Alcohol is a drug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9. Some effects of marijuana include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Problems with memory and learning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Trouble with thinking and problem solving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Decreased anxiety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Increased heart rat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0. </a:t>
            </a:r>
            <a:r>
              <a:rPr b="1" lang="en-US" sz="3200" spc="-1" strike="noStrike">
                <a:solidFill>
                  <a:srgbClr val="061c62"/>
                </a:solidFill>
                <a:latin typeface="Times New Roman"/>
              </a:rPr>
              <a:t>Harvard University researchers report the risk of a heart attack is __________________ than usual in the hour after smoking marijuana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0 times higher</a:t>
            </a: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2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4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5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0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1. </a:t>
            </a:r>
            <a:r>
              <a:rPr b="0" lang="en-US" sz="3200" spc="-1" strike="noStrike">
                <a:solidFill>
                  <a:srgbClr val="061c62"/>
                </a:solidFill>
                <a:latin typeface="Times New Roman"/>
              </a:rPr>
              <a:t>There have been over 7,000 published scientific and medical studies documenting the damage that marijuana poses. Not one study has shown marijuana to be safe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1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2. You can die the first time you try inhalants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2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3. Other side effects of using inhalants include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Hearing loss</a:t>
            </a: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Muscle spasms/seizur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d eyesight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Brain damag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3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4. </a:t>
            </a:r>
            <a:r>
              <a:rPr b="0" lang="en-US" sz="3200" spc="-1" strike="noStrike">
                <a:solidFill>
                  <a:srgbClr val="061c62"/>
                </a:solidFill>
                <a:latin typeface="Times New Roman"/>
              </a:rPr>
              <a:t>Sniffing highly concentrated amounts of the chemicals in solvents or aerosol sprays can directly induce heart failure and death within minutes of a session of repeated inhalations. This syndrome, known as</a:t>
            </a: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udden Sniffing Death Syndrom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Accidental Sniffing Dea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Untimely Death Syndrom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niffing Overload Dea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4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5. Cocaine, nicotine, and caffeine are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all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timulants</a:t>
            </a: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Depressan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5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6. Alcohol, GHB, and barbiturates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are all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timulants</a:t>
            </a: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Depressan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6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2.  Coffee and cold showers help you sober up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3.  What are internal pressures?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the media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parent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inside yourself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your friend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4.  What are external pressures?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inside yourself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outside sources like peers, the media, and parent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5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All of the answers below are short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term effects of alcohol EXCEPT for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Loss of judgmen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Loss of coordina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lurred speech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Improved intelligenc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6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Mothers who drink alcohol during pregnancy may give birth to infants with _____________________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Child alcohol traum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etal alcohol syndrom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Youth alcohol risk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etal abnormal syndrom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7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More than _____________ U.S. deaths are caused by excessive alcohol consumption each year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0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7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8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Long-term effects of consuming large quantities of alcohol can lead to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High blood pressur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Lowered resistance to diseas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everal different types of canc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ments in mental and physical heal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8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9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Continuing to smoke marijuana can lead to ___________ of lung tissue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injured or destroyed by marijuana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smoke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Abnormal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d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Mainstreamed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Typical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02:22:45Z</dcterms:created>
  <dc:creator>FCPS</dc:creator>
  <dc:description/>
  <dc:language>en-US</dc:language>
  <cp:lastModifiedBy>FCPS</cp:lastModifiedBy>
  <dcterms:modified xsi:type="dcterms:W3CDTF">2008-02-20T19:17:17Z</dcterms:modified>
  <cp:revision>10</cp:revision>
  <dc:subject/>
  <dc:title>Family Life Unit – Grade 5</dc:title>
</cp:coreProperties>
</file>