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DDF-20FD-4285-A0CF-40516C4A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8EB-A278-40B3-9DCA-BC928392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725-517C-4468-AEE3-491F1A78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0D5-ED69-49FA-8CD4-DEA70A33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51E5-BA1E-4AFC-A00A-1CA0C64E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D42B-8B04-40ED-851F-E1CF4637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9C94-6515-4C69-BAD2-D130BEB6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39AC-9DAB-4C41-A78D-5B717C8C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4D22-A93E-49AF-BCFA-BAEDB9FD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DA65-03A3-4C9B-BA72-E4442406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DA4C-1DF1-46FC-AFA6-38B4625A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DD5-CB0F-42EC-9B3A-3B245F95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18B8-B9FF-4103-BDE4-C62B596B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88F0-63EB-4310-9BF8-332B472C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BA3C-C5D1-48E3-82B7-4502041B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72D7-67B6-4231-97AF-EFB43165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0B11-D457-4BA4-AA73-D120068C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842-20F2-45CB-AEA0-A5EEBC1A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11D7-8A62-4136-B17E-59060A7C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895-AB97-470E-A72E-EC6A4EDE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DE9-D31F-452E-8094-04F8B2ED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74D-713F-40F7-B41A-178B6536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C88-499F-4943-8205-798681AC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A24-7C83-470D-86BD-E154B2E3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DB44-59DB-4817-8907-F16631EDF3A7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0554-4DDE-493E-A3F7-E38F5B3AF4B7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.  Alcohol is a drug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Tru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al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9. Some effects of marijuana include EXCEPT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Microsoft Sans Serif"/>
              </a:rPr>
              <a:t>Problems with memory and learning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Microsoft Sans Serif"/>
              </a:rPr>
              <a:t>Trouble with thinking and problem solving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Microsoft Sans Serif"/>
              </a:rPr>
              <a:t>Decreased anxiety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Microsoft Sans Serif"/>
              </a:rPr>
              <a:t>Increased heart rat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9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0. </a:t>
            </a:r>
            <a:r>
              <a:rPr b="1" lang="en-US" sz="3200" spc="-1" strike="noStrike">
                <a:solidFill>
                  <a:srgbClr val="061c62"/>
                </a:solidFill>
                <a:latin typeface="Times New Roman"/>
              </a:rPr>
              <a:t>Harvard University researchers report the risk of a heart attack is __________________ than usual in the hour after smoking marijuana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0 times higher</a:t>
            </a: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	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2 times high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4 times high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5 times high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0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1. </a:t>
            </a:r>
            <a:r>
              <a:rPr b="0" lang="en-US" sz="3200" spc="-1" strike="noStrike">
                <a:solidFill>
                  <a:srgbClr val="061c62"/>
                </a:solidFill>
                <a:latin typeface="Times New Roman"/>
              </a:rPr>
              <a:t>There have been over 7,000 published scientific and medical studies documenting the damage that marijuana poses. Not one study has shown marijuana to be safe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Tru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al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1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2. You can die the first time you try inhalants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Tru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al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2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3. Other side effects of using inhalants include EXCEPT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Hearing loss</a:t>
            </a: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	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Muscle spasms/seizure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Improved eyesight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Brain damag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3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4. </a:t>
            </a:r>
            <a:r>
              <a:rPr b="0" lang="en-US" sz="3200" spc="-1" strike="noStrike">
                <a:solidFill>
                  <a:srgbClr val="061c62"/>
                </a:solidFill>
                <a:latin typeface="Times New Roman"/>
              </a:rPr>
              <a:t>Sniffing highly concentrated amounts of the chemicals in solvents or aerosol sprays can directly induce heart failure and death within minutes of a session of repeated inhalations. This syndrome, known as</a:t>
            </a: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Sudden Sniffing Death Syndrom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Accidental Sniffing Death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Untimely Death Syndrom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Sniffing Overload Death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4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5. Cocaine, nicotine, and caffeine are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 all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Stimulants</a:t>
            </a: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	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Depressant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5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16. Alcohol, GHB, and barbiturates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 are all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Stimulants</a:t>
            </a: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	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Depressant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16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2.  Coffee and cold showers help you sober up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Tru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als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3.  What are internal pressures?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the media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parent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inside yourself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your friend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4.  What are external pressures?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inside yourself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Pressures that come from outside sources like peers, the media, and parent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5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All of the answers below are short </a:t>
            </a:r>
            <a:br>
              <a:rPr sz="3200"/>
            </a:b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term effects of alcohol EXCEPT for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Loss of judgmen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Loss of coordinatio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Slurred speech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Improved intelligenc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6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Mothers who drink alcohol during pregnancy may give birth to infants with _____________________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Child alcohol trauma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etal alcohol syndrom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Youth alcohol risk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Fetal abnormal syndrom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6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7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More than _____________ U.S. deaths are caused by excessive alcohol consumption each year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1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1,00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10,00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Microsoft Sans Serif"/>
              </a:rPr>
              <a:t>100,00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7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8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Long-term effects of consuming large quantities of alcohol can lead to EXCEPT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High blood pressur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Lowered resistance to diseas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Several different types of canc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Improvements in mental and physical health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8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c62"/>
                </a:solidFill>
                <a:latin typeface="Microsoft Sans Serif"/>
              </a:rPr>
              <a:t>9. </a:t>
            </a: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Continuing to smoke marijuana can lead to ___________ of lung tissue </a:t>
            </a:r>
            <a:br>
              <a:rPr sz="3200"/>
            </a:b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injured or destroyed by marijuana </a:t>
            </a:r>
            <a:br>
              <a:rPr sz="3200"/>
            </a:br>
            <a:r>
              <a:rPr b="1" lang="en-US" sz="3200" spc="-1" strike="noStrike">
                <a:solidFill>
                  <a:srgbClr val="061c62"/>
                </a:solidFill>
                <a:latin typeface="Arial Unicode MS"/>
              </a:rPr>
              <a:t>smoke.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4059360"/>
            <a:ext cx="69804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Abnormal function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Improved function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Mainstreamed function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Microsoft Sans Serif"/>
              </a:rPr>
              <a:t>Typical function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QUESTION 9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8640" y="304920"/>
            <a:ext cx="1690920" cy="398880"/>
          </a:xfrm>
          <a:prstGeom prst="rect">
            <a:avLst/>
          </a:prstGeom>
          <a:solidFill>
            <a:srgbClr val="365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1c62"/>
                </a:solidFill>
                <a:latin typeface="Microsoft Sans Serif"/>
              </a:rPr>
              <a:t>Drug Review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02:22:45Z</dcterms:created>
  <dc:creator>FCPS</dc:creator>
  <dc:description/>
  <dc:language>en-US</dc:language>
  <cp:lastModifiedBy>FCPS</cp:lastModifiedBy>
  <dcterms:modified xsi:type="dcterms:W3CDTF">2008-02-20T19:17:17Z</dcterms:modified>
  <cp:revision>10</cp:revision>
  <dc:subject/>
  <dc:title>Family Life Unit – Grade 5</dc:title>
</cp:coreProperties>
</file>