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CB1-FF43-4CC0-9AF5-F5C2DCF7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45B-7B50-42D7-9A6D-F6B01DDF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D41-89BC-489C-A2FD-B8DBD0BF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8F3-B7B8-4B74-9BAF-D85155D0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3A3A-E783-494D-A48E-CE131071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D6C8-5EAB-4C3D-A934-9F311CB6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6BF1-520B-4FF4-9B24-2D0DAEE6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62FC-BCFD-40BA-9A83-14AB620C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7151-D95E-4539-96C3-4D66AF28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2BA4-441E-486C-B8A9-48465C4C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08C2-85D8-4AA4-A36E-83FAC15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935-FF29-448C-B30C-BACD8504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05F4-09C5-4955-8FAF-E7769D7A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89E5-0CC5-4070-BE8D-52FF4102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3FDF-BF3C-438F-9E22-E1228656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4242-D26A-4ACB-B4FF-31A219A2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EF1E-4EE7-4ABC-A329-9D4A8595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F51-665B-48F2-93CF-82B42758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BCA-1EB3-4369-AB2C-4CF24C4A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561-F6FB-4CA0-A8AB-29C99F83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44E-0670-4B98-B54D-26F69EA3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FEF-5339-4BA1-B5CF-87BADB0F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F1A-7846-47D4-B367-37BC192E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99E-00E4-43E6-82CA-F50CA50E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0583-3B32-42A3-9EE8-FA16C0E18DF3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05D6-8677-4A2D-A5B5-0C2B31AE833E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.  Alcohol is a drug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9. Some effects of marijuana include EXCEPT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Problems with memory and learning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Trouble with thinking and problem solving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Decreased anxiety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Increased heart rat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9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0. </a:t>
            </a:r>
            <a:r>
              <a:rPr b="1" lang="en-US" sz="3200" spc="-1" strike="noStrike">
                <a:solidFill>
                  <a:srgbClr val="061c62"/>
                </a:solidFill>
                <a:latin typeface="Times New Roman"/>
              </a:rPr>
              <a:t>Harvard University researchers report the risk of a heart attack is __________________ than usual in the hour after smoking marijuana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0 times higher</a:t>
            </a: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2 times hig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4 times hig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5 times hig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0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1. </a:t>
            </a:r>
            <a:r>
              <a:rPr b="0" lang="en-US" sz="3200" spc="-1" strike="noStrike">
                <a:solidFill>
                  <a:srgbClr val="061c62"/>
                </a:solidFill>
                <a:latin typeface="Times New Roman"/>
              </a:rPr>
              <a:t>There have been over 7,000 published scientific and medical studies documenting the damage that marijuana poses. Not one study has shown marijuana to be safe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1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2. You can die the first time you try inhalants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2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3. Other side effects of using inhalants include EXCEPT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Hearing loss</a:t>
            </a: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Muscle spasms/seizur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Improved eyesight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Brain damag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3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4. </a:t>
            </a:r>
            <a:r>
              <a:rPr b="0" lang="en-US" sz="3200" spc="-1" strike="noStrike">
                <a:solidFill>
                  <a:srgbClr val="061c62"/>
                </a:solidFill>
                <a:latin typeface="Times New Roman"/>
              </a:rPr>
              <a:t>Sniffing highly concentrated amounts of the chemicals in solvents or aerosol sprays can directly induce heart failure and death within minutes of a session of repeated inhalations. This syndrome, known as</a:t>
            </a: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Sudden Sniffing Death Syndrom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Accidental Sniffing Dea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Untimely Death Syndrom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Sniffing Overload Dea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4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5. Cocaine, nicotine, and caffeine are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 all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Stimulants</a:t>
            </a: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Depressan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5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6. Alcohol, GHB, and barbiturates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 are all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Stimulants</a:t>
            </a: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Depressan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6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2.  Coffee and cold showers help you sober up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3.  What are internal pressures?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the media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parent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inside yourself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your friend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4.  What are external pressures?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inside yourself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outside sources like peers, the media, and parent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5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All of the answers below are short </a:t>
            </a:r>
            <a:br>
              <a:rPr sz="3200"/>
            </a:b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term effects of alcohol EXCEPT for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Loss of judgmen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Loss of coordina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Slurred speech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Improved intelligenc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6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Mothers who drink alcohol during pregnancy may give birth to infants with _____________________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Child alcohol trauma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etal alcohol syndrom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Youth alcohol risk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etal abnormal syndrom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7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More than _____________ U.S. deaths are caused by excessive alcohol consumption each year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,00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0,00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00,00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7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8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Long-term effects of consuming large quantities of alcohol can lead to EXCEPT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High blood pressur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Lowered resistance to diseas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Several different types of canc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Improvements in mental and physical heal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8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9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Continuing to smoke marijuana can lead to ___________ of lung tissue </a:t>
            </a:r>
            <a:br>
              <a:rPr sz="3200"/>
            </a:b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injured or destroyed by marijuana </a:t>
            </a:r>
            <a:br>
              <a:rPr sz="3200"/>
            </a:b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smoke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Abnormal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Improved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Mainstreamed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Typical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9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02:22:45Z</dcterms:created>
  <dc:creator>FCPS</dc:creator>
  <dc:description/>
  <dc:language>en-US</dc:language>
  <cp:lastModifiedBy>FCPS</cp:lastModifiedBy>
  <dcterms:modified xsi:type="dcterms:W3CDTF">2008-02-20T19:17:17Z</dcterms:modified>
  <cp:revision>10</cp:revision>
  <dc:subject/>
  <dc:title>Family Life Unit – Grade 5</dc:title>
</cp:coreProperties>
</file>