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FEC5-0DEB-48FE-9EDF-BBB64A308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6544-8B4B-49CB-9459-82F8A7B6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7CA8-F64E-4083-A9C7-6E26E6218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EF70-DDE4-4206-8460-89E57D086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EBD1-20FF-4A45-9586-1CE55B95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558B-642E-4EE2-BBEE-86EB236B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DC9C-C61A-42C5-B58B-42531367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97EE-022F-4C11-B33D-0357DF5B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173F-4B55-4BB8-AB30-B51F6840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50E2-CB4A-4388-BF96-F438CCC9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ED99-67D4-4CE8-9079-C0D1F56E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F28E-00D8-4350-B372-35197A4C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F29A-570A-459D-89C5-3A55754FF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icrosoft Sans Serif"/>
              </a:rPr>
              <a:t>Heart Rate Monitor Pre-assessm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43" name="math-problems" descr=""/>
          <p:cNvPicPr/>
          <p:nvPr/>
        </p:nvPicPr>
        <p:blipFill>
          <a:blip r:embed="rId1"/>
          <a:stretch/>
        </p:blipFill>
        <p:spPr>
          <a:xfrm>
            <a:off x="228600" y="4038480"/>
            <a:ext cx="2492280" cy="2560680"/>
          </a:xfrm>
          <a:prstGeom prst="rect">
            <a:avLst/>
          </a:prstGeom>
          <a:ln w="0">
            <a:noFill/>
          </a:ln>
        </p:spPr>
      </p:pic>
      <p:pic>
        <p:nvPicPr>
          <p:cNvPr id="44" name="einstruction" descr=""/>
          <p:cNvPicPr/>
          <p:nvPr/>
        </p:nvPicPr>
        <p:blipFill>
          <a:blip r:embed="rId2"/>
          <a:stretch/>
        </p:blipFill>
        <p:spPr>
          <a:xfrm>
            <a:off x="6647040" y="228600"/>
            <a:ext cx="2108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t rate zone is..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any breaths you should take in one minute while exercising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any beats your heart should beat within one minute while exercising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flexible you a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hard your heart is beating while res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6200" y="304920"/>
            <a:ext cx="17564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HRM Pre-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exercising your heart rate should be between?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 and 100 beats per min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and 120 beats per min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0 and 140 beats per min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0 and 180 beats per min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8320" y="304920"/>
            <a:ext cx="28065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itle of Test or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t Rate Monitors are used to show a person how hard their Cardio Respiratory is wor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6560" y="304920"/>
            <a:ext cx="17398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HRM Pre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t Rate Monitors can be used to assess our muscular streng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5280" y="304920"/>
            <a:ext cx="16466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HRM Pr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What are the parts to a Polar H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Watch/Receiv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trap/Transmi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All of the ab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6560" y="304920"/>
            <a:ext cx="17398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HRM Pre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What information does a Polar Heart Rate monitor provide to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How much you breath in one minu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How hard your Muscular Skeletal system is wor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How hard your Cardio Respiratory system is wor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How flexible you 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04920"/>
            <a:ext cx="18288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HRM Pre-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heart rate monitor is beeping what does this mean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are working outside your heart rate z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watches battery is 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working inside your heart rate z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watch is not receiving a signal from the str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8320" y="304920"/>
            <a:ext cx="28065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itle of Test or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6:34:29Z</dcterms:created>
  <dc:creator>Michael Hakkarinen</dc:creator>
  <dc:description/>
  <dc:language>en-US</dc:language>
  <cp:lastModifiedBy>cps4pe</cp:lastModifiedBy>
  <dcterms:modified xsi:type="dcterms:W3CDTF">2007-11-12T18:48:45Z</dcterms:modified>
  <cp:revision>10</cp:revision>
  <dc:subject/>
  <dc:title>MSA Math Practice: Session 1</dc:title>
</cp:coreProperties>
</file>