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92B-6A4B-4C65-993B-EAC9301E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BF0-93A9-4A1B-88E0-9BB21921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1DC-4446-4117-B285-D2D93307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476-9DD5-45AB-B8C7-6244A492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D68-1CB1-4767-8B71-7E67629D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036-947F-4125-92E2-8A2D9BF1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EAC-F5FB-481E-9D05-2C0038A8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CE9-40B1-4223-98F1-1936CDDA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712-69CB-470F-A06F-A841DBFF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11E-3EB9-4839-8DE1-B1F2F232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828-9108-465E-AE7A-FA6A798D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C94-02C5-4238-A250-9830C22B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0CA1-3A69-4A54-9F3B-CA9837A0F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Heart Rate Monitor Pre-assess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492280" cy="256068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zone is.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breaths you should take in one minute while exercis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beats your heart should beat within one minute while exercis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lexible you a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hard your heart is beating while 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6200" y="304920"/>
            <a:ext cx="1756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-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exercising your heart rate should be between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 and 10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and 12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 and 14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 and 180 beats pe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Monitors are used to show a person how hard their Cardio Respiratory is wo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6560" y="304920"/>
            <a:ext cx="1739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Monitors can be used to assess our muscular streng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5280" y="304920"/>
            <a:ext cx="1646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are the parts to a Polar H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atch/Recei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trap/Transmi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6560" y="304920"/>
            <a:ext cx="1739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information does a Polar Heart Rate monitor provide to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you breath in one min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hard your Muscular Skeletal system is wor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hard your Cardio Respiratory system is wor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flexible you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1828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-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eart rate monitor is beeping what does this mea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working outside your heart rate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watches battery is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working inside your heart rate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atch is not receiving a signal from the str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cps4pe</cp:lastModifiedBy>
  <dcterms:modified xsi:type="dcterms:W3CDTF">2007-11-12T18:48:45Z</dcterms:modified>
  <cp:revision>10</cp:revision>
  <dc:subject/>
  <dc:title>MSA Math Practice: Session 1</dc:title>
</cp:coreProperties>
</file>