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DEC-FBA5-4E79-A0A3-EF071BD9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4D6-AE83-433D-BD18-E4E00A0F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342-2A2C-437B-8AB4-5EB9E79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784-EE05-47C8-AC72-B25EE82A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F36-4A83-49D3-ABF6-A18F4E40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954-8055-4688-9836-0F03E57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2AE-2271-4C1C-A988-8DDCCE8A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3CD-F7AC-4A12-B035-6F7C1AE5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F89-53E1-4E96-950D-D33F9905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DEE-91FF-418B-8AC1-32082B0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811-8BD9-4FF5-A41F-1B89F39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5B3-68ED-4694-B354-1C658C78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DE28-CFF6-49D7-9C94-787340458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Heart Rate Monitor Pre-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zone is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reaths you should take 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eats your heart should beat with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lexible you 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rd your heart is beating while 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6200" y="304920"/>
            <a:ext cx="1756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xercising your heart rate should be between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and 10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and 12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 and 14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 and 180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are used to show a person how hard their Cardio Respiratory is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can be used to assess our muscular streng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304920"/>
            <a:ext cx="1646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are the parts to a Polar H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atch/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trap/Trans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nformation does a Polar Heart Rate monitor provide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you breath in one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Muscular Skeletal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Cardio Respiratory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flexible you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1828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eart rate monitor is beeping what does this mea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working out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atches battery is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orking in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tch is not receiving a signal from the st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8:48:45Z</dcterms:modified>
  <cp:revision>10</cp:revision>
  <dc:subject/>
  <dc:title>MSA Math Practice: Session 1</dc:title>
</cp:coreProperties>
</file>