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D94-EDE1-47DF-8057-B5E70BE1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C14-1CDB-4DCF-805C-260CB7FD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BB0-351C-47D0-857C-E324F391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6CC-1CD7-4FEB-9EF9-045E4F4F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D36-31EC-4B55-B476-022C791F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C0D-14C0-46E2-B822-A30FED24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C03-AC6D-4BDC-A978-A2CE46C3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B13-F222-46B0-A151-A9115890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138-0799-41DB-A0AA-A51DE7BD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78A-123F-4331-A292-EBECA99E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0E1-C78E-4DE9-A559-C548E2F0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9F8-7004-4F0F-BD26-3B682B4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8EA6-1547-4C4C-A1D9-8B079447B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t of the st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k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act with the p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32:16Z</dcterms:created>
  <dc:creator>gary burgess</dc:creator>
  <dc:description/>
  <dc:language>en-US</dc:language>
  <cp:lastModifiedBy>gary burgess</cp:lastModifiedBy>
  <dcterms:modified xsi:type="dcterms:W3CDTF">2007-11-03T01:32:53Z</dcterms:modified>
  <cp:revision>1</cp:revision>
  <dc:subject/>
  <dc:title>Exit Question</dc:title>
</cp:coreProperties>
</file>