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0C99-273E-49AE-811D-ABE31A03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D16-FB6B-4B4F-BBC2-4E0D05ED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7F9-1B9E-41F1-B867-7B7528E3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9BD9-6D1D-4F29-88AA-8E7B9329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688-71F5-4422-AD90-E4483B84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7AE-6178-4B09-B6C9-AC0EB260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213-012E-420C-A31E-3A54F670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6DF-E924-47FC-9C81-E0F3813D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F8F-4BD6-43AA-87A0-7533EC42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546-D05C-4791-9573-DB80B9BD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86E-C1A8-4FBB-8CE6-3C3505EB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05C-C555-4216-90DD-BE4075EC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3DB3-9E24-4B44-B133-86EEC73F3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rt of the st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mak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tact with the p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1:32:16Z</dcterms:created>
  <dc:creator>gary burgess</dc:creator>
  <dc:description/>
  <dc:language>en-US</dc:language>
  <cp:lastModifiedBy>gary burgess</cp:lastModifiedBy>
  <dcterms:modified xsi:type="dcterms:W3CDTF">2007-11-03T01:32:53Z</dcterms:modified>
  <cp:revision>1</cp:revision>
  <dc:subject/>
  <dc:title>Exit Question</dc:title>
</cp:coreProperties>
</file>