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4FB-30EC-4486-AC25-96AFE052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D00-D0B9-4D5B-9235-3163548D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F4B-3FE5-4749-9833-63F5C178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803-502D-4BB2-9414-E425F8D3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8D8-0C14-475D-9475-2113D8B6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7B3-A2BF-4C1A-883A-09639A9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09F-F62D-4C7A-94D7-69109E0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745-A0EC-402A-92CA-7586DC71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C41-152F-4165-8651-7F461B91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22C-5E79-4F01-9028-8B99698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796-093B-4D84-BC06-7BB08E75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B1F-1185-4F97-9690-8A6C5416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CA46-01CB-42F2-894A-BFA9558B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of the st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k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act with the p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32:16Z</dcterms:created>
  <dc:creator>gary burgess</dc:creator>
  <dc:description/>
  <dc:language>en-US</dc:language>
  <cp:lastModifiedBy>gary burgess</cp:lastModifiedBy>
  <dcterms:modified xsi:type="dcterms:W3CDTF">2007-11-03T01:32:53Z</dcterms:modified>
  <cp:revision>1</cp:revision>
  <dc:subject/>
  <dc:title>Exit Question</dc:title>
</cp:coreProperties>
</file>