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0C1-9395-4D4E-9852-596C93AB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AFF-720F-4944-9F61-5CD06598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32F-28D9-48C5-8364-254E83E1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D46-D5C3-4435-B586-8A0E6303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7F6-2421-4A9B-8D9C-4E467201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4DA-ED07-41BE-9FBA-644BB6AD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68F-6FA6-4FF8-A7F9-850D9C8B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CD2-69AF-4987-8030-4E130B6F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CFB-BAB2-4C3B-8C59-0AA12ECB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DFD-3064-445A-BE71-23FD1D39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96D-6591-494B-8138-FE5BCAC3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5AB-BB9C-4AC8-AF64-172E4FE7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1A3B-C765-4430-B574-5AEEE1712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rt of the st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mak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tact with the p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1:32:16Z</dcterms:created>
  <dc:creator>gary burgess</dc:creator>
  <dc:description/>
  <dc:language>en-US</dc:language>
  <cp:lastModifiedBy>gary burgess</cp:lastModifiedBy>
  <dcterms:modified xsi:type="dcterms:W3CDTF">2007-11-03T01:32:53Z</dcterms:modified>
  <cp:revision>1</cp:revision>
  <dc:subject/>
  <dc:title>Exit Question</dc:title>
</cp:coreProperties>
</file>