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0F5-5089-4B77-A3F4-8C4F0659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93F-2D54-4B81-9661-3AC27446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536-5285-4717-B65F-ADE5816B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B6A-2740-4FC7-A07C-209106AC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A2E9-37F1-4B99-9E17-026C81D8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04A0-8180-4CB0-A5EE-BF5BDDA4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1FF9-9F90-40F6-866A-8CE4BF2A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BDC7-C27E-4B57-B918-5D6BE468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0255-2254-4FAC-AD1F-2A8E0283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CB2F-F309-4A2B-BE46-6DA7B229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ED92-21AC-4680-A9CF-B503426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AEA-B472-4389-B71E-40C3C731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3FBB-B337-4858-A43A-4FCCEC48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560F-6B48-44D6-86A9-80462376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E595-C1CB-4AFE-BA37-AFF04BFC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F158-B538-4B01-A629-C839E7B7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3AFA-F46A-485F-9238-830545FC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52D-D423-4775-857C-2EBEEE31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479-CFA7-4807-A143-2B696865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2B3-3A00-4CF5-A474-A2194212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A17-93B1-4E21-A3E1-DBE79705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910-AE2F-4871-8012-ED1872C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C87-EB90-4310-9C10-6560476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FFD-DFB5-4C21-9E30-07471D6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6CE0-50C9-4B22-B1E9-6BC5432AA84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F5C-7FB5-4573-B1F8-04CF2D8F1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281480" cy="556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37040" y="685800"/>
            <a:ext cx="3306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SHORT JUMP ROPE UNIT</a:t>
            </a:r>
            <a:br>
              <a:rPr sz="6600"/>
            </a:b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5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Peek-a-boo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Kick Swing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Advanced Twister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an Ca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1752480"/>
            <a:ext cx="3809880" cy="72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J.C. Shuffl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Side Swing Criss Cross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Under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Grapevin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Objectives: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Manipulative skill of jump ropin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t a goal and work to achieve i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lf-discipline &amp; motiv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  <a:ea typeface="Times New Roman"/>
              </a:rPr>
              <a:t>Recognize the relationship between effort and improvement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diovascular Endurance</a:t>
            </a: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ardiovascular System=heart, lungs, and blood vessel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ndurance=ability to keep on going without getting tir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ardiovascular Endurance= How well your heart, lungs, blood vessels, and muscles work together (without    getting tired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hich body system is made up of the following: heart, lungs, and blood vessel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83280" y="3317760"/>
            <a:ext cx="24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Cardiovascula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elet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ability to keep on going without getting tir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84000" y="331776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duran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thusias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1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Basic Bounce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ide Swing &amp; Jum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Double Side Swing &amp; Jum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2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47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kier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Bell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Jog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81080"/>
            <a:ext cx="38102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ide Straddle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Forward Straddle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3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36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Straddl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X Motio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riss Cross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wister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Backward Jump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4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Peek-a-boo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Full Tur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Heel to Heel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oe to To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1981080"/>
            <a:ext cx="380988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Heel-To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Forward 18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Backward 18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36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2:16:18Z</dcterms:created>
  <dc:creator>FCPS</dc:creator>
  <dc:description/>
  <dc:language>en-US</dc:language>
  <cp:lastModifiedBy>FCPS</cp:lastModifiedBy>
  <dcterms:modified xsi:type="dcterms:W3CDTF">2008-02-20T18:34:25Z</dcterms:modified>
  <cp:revision>22</cp:revision>
  <dc:subject/>
  <dc:title>JUMP ROPE UNIT</dc:title>
</cp:coreProperties>
</file>