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1B3-6DE9-4B05-9B07-51A0BB3C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22F-93EA-4280-9F52-394173E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218-7CCB-4625-8F01-5C3C6050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09A-CD20-46E5-A3D2-211C227F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3B5A-9AE4-4954-9E79-C85FF9CA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0C6-57BC-44D5-B6C1-C66970CA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97F-6C0C-4AF1-BB5A-7706AC5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CD6D-186D-4176-9847-0763699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D552-181C-4BA4-A929-319DE50F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A731-9F98-4686-BAAC-B4ED76A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72F0-8E1F-4FA4-B4FC-80AC4FC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538-7980-43A6-94BD-39A8306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3064-EF61-4287-942D-D227D0A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9572-56E1-45FD-9B79-B517CE9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2343-43E4-4C3C-925B-34FF2F65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6DA-1875-4A7F-B4DB-BB60910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3C1E-1C2C-4C9F-990F-7458DFB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659-BDA7-4137-92BD-B0BBF02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49C-A2F8-44A1-827C-D863C9F8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6FD-D73E-4DB7-999E-694903D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6DE-2FCC-4008-A7B0-B381F06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F03-78CB-4B38-9D2F-8063AB1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42A-9B3D-40EF-8A59-9DF76AA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846-0537-4B5F-AA69-314AC4B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778-5339-4314-9398-2161C9D8EAE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9E4-8304-4C4F-8B4C-B502A359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2814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37040" y="685800"/>
            <a:ext cx="3306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SHORT JUMP ROPE UNIT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5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Kick Swing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Advanced 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an Ca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52480"/>
            <a:ext cx="3809880" cy="72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J.C. Shuffl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Side Swing Criss Cros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Under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Grapevin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Objectives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Manipulative skill of jump rop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t a goal and work to achieve i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lf-discipline &amp; motiv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  <a:ea typeface="Times New Roman"/>
              </a:rPr>
              <a:t>Recognize the relationship between effort and improvement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Endurance</a:t>
            </a: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System=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ndurance=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Endurance= How well your heart, lungs, blood vessels, and muscles work together (without    getting tired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hich body system is made up of the following: 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83280" y="3317760"/>
            <a:ext cx="24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Cardiova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elet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84000" y="331776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1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asic Bounce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Double 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2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4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kier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ell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Jog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81080"/>
            <a:ext cx="38102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Forward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3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Straddl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X Motio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riss Cros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Jump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4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ull Tur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 to Heel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oe to To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981080"/>
            <a:ext cx="38098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-To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or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36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2:16:18Z</dcterms:created>
  <dc:creator>FCPS</dc:creator>
  <dc:description/>
  <dc:language>en-US</dc:language>
  <cp:lastModifiedBy>FCPS</cp:lastModifiedBy>
  <dcterms:modified xsi:type="dcterms:W3CDTF">2008-02-20T18:34:25Z</dcterms:modified>
  <cp:revision>22</cp:revision>
  <dc:subject/>
  <dc:title>JUMP ROPE UNIT</dc:title>
</cp:coreProperties>
</file>