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A6D-CF48-4B1C-85F0-727C7468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DC6-CBBA-4EEE-AEEC-A5CE0F29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E93-3915-4C57-A72B-1315BC2A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952-87A3-44CD-A371-A2277EC5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8613-EF78-4283-A93E-1BDE3A0F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162A-6762-49C2-B087-42228CEB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BD64-02FF-4E4C-9D60-95D3F7F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26F-F57D-433B-8775-22AF867F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691-D514-4B0F-8704-E220D54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B1EC-5BE3-4274-8C89-57CE228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B69-9DEE-4F9D-8AAF-ACD8E25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78F-E5F2-4954-9563-D26D555A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BC9E-37D0-4C3F-82A6-EAD99EF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EAE-DAB5-49A5-833C-1508FB83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63C-43B0-4FDA-A474-89F20A8D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DE76-7A4C-4DAF-9B4D-7E838EEF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497A-148A-43C8-94A5-EE8AB3C0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375-5221-41F6-824A-CE9CC397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97C-9025-40E4-9365-06E64E6F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CCF-C254-4EBB-AD8A-C7B6DD4C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C11-2E28-418F-8AC8-D214928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A87-FF12-41F8-A850-F4C4E07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FAF-5C38-490B-98C7-A4C0E8B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DE1-0DA7-48BA-A566-AA65402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1455-B7DE-43D8-BAE0-689C52711EF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2886-F401-4FCC-90D7-88CB0AA67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2814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37040" y="685800"/>
            <a:ext cx="3306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SHORT JUMP ROPE UNIT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5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Kick Swing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Advanced 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an Ca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752480"/>
            <a:ext cx="3809880" cy="72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J.C. Shuffl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Side Swing Criss Cros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Under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Grapevin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Objectives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Manipulative skill of jump ropin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t a goal and work to achieve i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lf-discipline &amp; motiv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  <a:ea typeface="Times New Roman"/>
              </a:rPr>
              <a:t>Recognize the relationship between effort and improvement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diovascular Endurance</a:t>
            </a: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System=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ndurance=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Endurance= How well your heart, lungs, blood vessels, and muscles work together (without    getting tired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hich body system is made up of the following: 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83280" y="3317760"/>
            <a:ext cx="24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Cardiova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elet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84000" y="331776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1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asic Bounce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Double 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2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47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kier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ell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Jog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81080"/>
            <a:ext cx="38102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Forward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3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Straddl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X Motio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riss Cros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Jump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4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ull Tur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 to Heel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oe to To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1981080"/>
            <a:ext cx="38098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-To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or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36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2:16:18Z</dcterms:created>
  <dc:creator>FCPS</dc:creator>
  <dc:description/>
  <dc:language>en-US</dc:language>
  <cp:lastModifiedBy>FCPS</cp:lastModifiedBy>
  <dcterms:modified xsi:type="dcterms:W3CDTF">2008-02-20T18:34:25Z</dcterms:modified>
  <cp:revision>22</cp:revision>
  <dc:subject/>
  <dc:title>JUMP ROPE UNIT</dc:title>
</cp:coreProperties>
</file>