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D59-47E8-4BDF-AA55-34F166CF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76B-19C4-4539-B152-68977EDF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5FE-A62E-4033-902E-59D2ABF9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7AD-84E9-40DC-99FC-9138585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748A-9F7C-425D-89D2-ACB648C0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334-D96C-412A-83D5-17F7C2E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1330-13EA-4B80-8AFA-0E9B445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9B5-FE66-40DC-9FA3-CFB3E1C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1B28-C33A-46F4-A7CB-39C5AED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F162-3C3C-4D22-A45D-7F3732E8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198-E849-422A-A33C-BB01DCC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384-35B6-4D2E-94FA-FBF3DE87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0CD-A4A9-4343-B23D-72F358A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632D-5116-4048-BA66-8564FAD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281-39AA-4E15-A407-1B4C39A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ED45-4D8B-4B9A-BBBD-EA588850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2EFA-CA66-4880-A3B2-752F2FAB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223-075D-45E4-8FC0-283D9A6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876-A302-4AE3-AA78-067903C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3DB-A905-42FA-8F96-815F78D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242-D2BD-4BED-81C2-D4BF6A9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C7-8627-4FC5-9CFC-09B2487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6CA-2AB9-4F15-92F9-7259B48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7D3-FBB3-45D1-B225-DBAF6A0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7DC-2446-4AC4-B8CD-EC35747D9FF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15ED-3A5F-49FC-9CBF-A99BB1FD2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2814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37040" y="685800"/>
            <a:ext cx="3306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SHORT JUMP ROPE UNIT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5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Kick Swing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Advanced 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an Ca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52480"/>
            <a:ext cx="3809880" cy="72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J.C. Shuffl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Side Swing Criss Cros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Under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Grapevin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Objectives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Manipulative skill of jump rop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t a goal and work to achieve i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lf-discipline &amp; motiv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  <a:ea typeface="Times New Roman"/>
              </a:rPr>
              <a:t>Recognize the relationship between effort and improvement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Endurance</a:t>
            </a: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System=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ndurance=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ardiovascular Endurance= How well your heart, lungs, blood vessels, and muscles work together (without    getting tired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hich body system is made up of the following: heart, lungs, and blood vessel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83280" y="3317760"/>
            <a:ext cx="24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Cardiovascul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elet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ability to keep on going without getting tir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81680" y="990720"/>
          <a:ext cx="17319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990720"/>
                    <a:ext cx="1731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214720" cy="216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84000" y="331776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1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asic Bounce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Double Side Swing &amp; Jum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2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4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kier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Bell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Jog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81080"/>
            <a:ext cx="38102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Side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Forward Straddle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3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uble Straddl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X Motio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riss Cros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wister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Jump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72e"/>
                </a:solidFill>
                <a:latin typeface="Times New Roman"/>
              </a:rPr>
              <a:t>LEVEL  4  SKILL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Peek-a-boo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ull Turn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 to Heel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oe to To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981080"/>
            <a:ext cx="38098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Heel-To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For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Backward 18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360</a:t>
            </a:r>
            <a:r>
              <a:rPr b="0" lang="en-US" sz="3000" spc="-1" strike="noStrike" baseline="80000">
                <a:solidFill>
                  <a:srgbClr val="dddddd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2:16:18Z</dcterms:created>
  <dc:creator>FCPS</dc:creator>
  <dc:description/>
  <dc:language>en-US</dc:language>
  <cp:lastModifiedBy>FCPS</cp:lastModifiedBy>
  <dcterms:modified xsi:type="dcterms:W3CDTF">2008-02-20T18:34:25Z</dcterms:modified>
  <cp:revision>22</cp:revision>
  <dc:subject/>
  <dc:title>JUMP ROPE UNIT</dc:title>
</cp:coreProperties>
</file>