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A0F9-F4F9-441D-ADA8-11FC19C2A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BF6C-5CA8-422C-A060-80505CB60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E8D0-3C10-4896-AB29-88DBF45BE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EB83-3695-49EE-A766-8FE526FB7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BC39-EDCD-4F77-B9C7-E88AED99F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0B2F-D7AC-4FB2-A86B-0010301BB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55DC-BEBF-4AEA-B956-2A93F86C7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444F-83AA-4D8E-B1D6-674C03FF1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173D-B516-4D22-A8B7-8AE4F05C5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1E56-1A53-4666-9535-9D980A7D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3796-347D-405F-BBBC-6F217B96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B1AC-2D59-4897-9C32-91A1BEBE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83EB4-8A93-4D6A-AF49-1685576F3E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ritical Elem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ass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hockey puck inclu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 the stick in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weeping 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h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ward the 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ick l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the follow th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 the stick in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erked 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p hand down the shaf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st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ick l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the follow th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 the stick in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weeping 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h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ward the 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ng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ick hi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the follow th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3T01:59:14Z</dcterms:created>
  <dc:creator>gary burgess</dc:creator>
  <dc:description/>
  <dc:language>en-US</dc:language>
  <cp:lastModifiedBy>gary burgess</cp:lastModifiedBy>
  <dcterms:modified xsi:type="dcterms:W3CDTF">2007-11-03T02:11:41Z</dcterms:modified>
  <cp:revision>1</cp:revision>
  <dc:subject/>
  <dc:title>PowerPoint Presentation</dc:title>
</cp:coreProperties>
</file>