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8D0-BAF9-46FD-9A18-C5B92CFC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B89-E8B5-4614-AC2F-F1D6D948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E1E-5E0C-409E-AD69-2686E0E9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861-4DC8-4201-B67A-D903297D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FF1-B887-413E-BAE9-15A606DB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362-1612-4DC1-A0A5-38F87D8B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D51-136E-45DA-8C18-075BB694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6D3-F0DD-4802-B007-C94BD855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FC6-C254-4698-BDC3-2C7BC962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E84-B43B-4BF6-AA2A-9F589D71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39F-4E26-4741-BB8C-4D37626A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88E-084B-4901-BBA7-444A6833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6DC2-112F-4EA2-9B16-FB50BC14B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itical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hockey puck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weep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h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war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erked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p hand down the sha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weep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h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war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ng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1:59:14Z</dcterms:created>
  <dc:creator>gary burgess</dc:creator>
  <dc:description/>
  <dc:language>en-US</dc:language>
  <cp:lastModifiedBy>gary burgess</cp:lastModifiedBy>
  <dcterms:modified xsi:type="dcterms:W3CDTF">2007-11-03T02:11:41Z</dcterms:modified>
  <cp:revision>1</cp:revision>
  <dc:subject/>
  <dc:title>PowerPoint Presentation</dc:title>
</cp:coreProperties>
</file>