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03B-AA8C-4B41-8E20-9F10F55B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657-3E38-4BBE-A239-F9755F3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9F2-C280-467A-A755-8A2FE75C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B45-7231-4076-8CA7-33C18F21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3A7-EA12-4F51-A1BE-69E30C3E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534-2AB0-43B8-8715-B34B8995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04A-6316-48A3-B7B4-5A4833A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D01-0DED-46F0-BD68-57EE4392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3BA-6D16-4048-AF75-1390AD2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AC1-FF1B-4CB3-B4F6-C9B207D6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0FE-5D61-4A66-974A-C6AA5A7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10F-C3F7-4075-9C69-CD1ADB1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D4F-D37B-4F1A-8E76-C17C502B5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ical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hockey puck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rke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hand down the sh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59:14Z</dcterms:created>
  <dc:creator>gary burgess</dc:creator>
  <dc:description/>
  <dc:language>en-US</dc:language>
  <cp:lastModifiedBy>gary burgess</cp:lastModifiedBy>
  <dcterms:modified xsi:type="dcterms:W3CDTF">2007-11-03T02:11:41Z</dcterms:modified>
  <cp:revision>1</cp:revision>
  <dc:subject/>
  <dc:title>PowerPoint Presentation</dc:title>
</cp:coreProperties>
</file>