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6C7A-351B-4FF7-88FC-F7F92E568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BF04-DB9D-4272-ABA7-5DD5871A2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3579-6030-418A-820D-D9DEFCB90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D562-313A-41CB-B037-B2D63A9F0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F339-E985-4F49-ACCF-6AFA8D067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EE60-2764-4D88-A878-BF2FB63DB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95DF-0261-4442-837B-11FF85EC7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C123-5347-4579-B446-BA74A8F9D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B46A-3D45-40CF-A058-56D7D51BF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527B-547C-487B-88F9-A3BA23EF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D269-5B1D-4A56-B6B7-D40FD07A4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7D37-58B6-41B5-9142-956BE58D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68EC8-937E-4A1D-8F12-8313B1C399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ritical Elem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ass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 hockey puck inclu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 the stick in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weeping mo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h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ward the 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ep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ick l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 the follow thro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 the stick in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jerked mo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p hand down the shaf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st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ep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ick l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 the follow thro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 the stick in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weeping mo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h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ward the 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ng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ick hi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 the follow thro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3T01:59:14Z</dcterms:created>
  <dc:creator>gary burgess</dc:creator>
  <dc:description/>
  <dc:language>en-US</dc:language>
  <cp:lastModifiedBy>gary burgess</cp:lastModifiedBy>
  <dcterms:modified xsi:type="dcterms:W3CDTF">2007-11-03T02:11:41Z</dcterms:modified>
  <cp:revision>1</cp:revision>
  <dc:subject/>
  <dc:title>PowerPoint Presentation</dc:title>
</cp:coreProperties>
</file>