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5E90-B23B-4036-B776-F3DB4CC0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EF37-9D68-4A07-A669-F5C5809B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25B5-5FD1-4DB2-AEEC-668E1BCD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20D3-BEE3-455C-928A-651B1374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1D66-0F86-4A49-9985-98BE3079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EF54-362D-4127-B9F9-DB4E6B85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9082-88D5-416C-9294-12E4D654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A2AF-A824-4B7B-9E34-6018B1FA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2FA5-C2FD-4D0C-820A-93BBCFEF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67DC-24E6-43A1-9C44-BFCCF71F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735A-909D-483C-AD1A-0CA156D8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ED2-7603-403E-9DD1-4908637B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233B-F88B-40B6-A050-6B7A3EE60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ritical El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as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hockey puck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the stick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weeping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h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ward th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ick 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follow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the stick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erked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p hand down the sha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ick 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follow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the stick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weeping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h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ward th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ng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ick h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follow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01:59:14Z</dcterms:created>
  <dc:creator>gary burgess</dc:creator>
  <dc:description/>
  <dc:language>en-US</dc:language>
  <cp:lastModifiedBy>gary burgess</cp:lastModifiedBy>
  <dcterms:modified xsi:type="dcterms:W3CDTF">2007-11-03T02:11:41Z</dcterms:modified>
  <cp:revision>1</cp:revision>
  <dc:subject/>
  <dc:title>PowerPoint Presentation</dc:title>
</cp:coreProperties>
</file>