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D36-E87B-4539-A749-415630CF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D80-27B4-42BC-9A1F-DD55F9ED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A84-81B3-4C67-849F-5A4D72C1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276-6729-48BF-8F14-C4E52F5A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6005-945C-4199-8566-E33065D0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B20-4218-40E2-8E8D-9590A575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BFD-7D77-492F-804F-9BDD7C02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BE1-9000-441A-A67F-D3202EFF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B4A-63BA-4849-916D-89FF49FC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0C9-3EAB-4AD7-BB62-98F51439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ACE-68E5-4E3A-8F43-6CE55312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9557-0E9B-4663-9507-DC9BDDF8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1D8B-E845-4FE4-A031-4CEBC8C3E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ritical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s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hockey puck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he stick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weep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h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ward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k 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follow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he stick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erked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p hand down the sha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k 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follow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he stick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weep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h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ward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ng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k 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follow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1:59:14Z</dcterms:created>
  <dc:creator>gary burgess</dc:creator>
  <dc:description/>
  <dc:language>en-US</dc:language>
  <cp:lastModifiedBy>gary burgess</cp:lastModifiedBy>
  <dcterms:modified xsi:type="dcterms:W3CDTF">2007-11-03T02:11:41Z</dcterms:modified>
  <cp:revision>1</cp:revision>
  <dc:subject/>
  <dc:title>PowerPoint Presentation</dc:title>
</cp:coreProperties>
</file>