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wmf" ContentType="image/x-wmf"/>
  <Override PartName="/ppt/media/image1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8.png" ContentType="image/pn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C97C-87FA-4152-84E0-2E4EC6DF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F70-C898-41AD-82E8-5C9C87CF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AF1A-6FD7-4E82-8E29-B3DB96B1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B178-B586-48E1-AF4D-24D78D35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E7B4-BCD9-4517-872A-E04DD5AA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463E-C725-4670-935C-82EA7E39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4B57-31A4-48C1-9245-6205FAC1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4C3D-7F75-49C5-94C3-5E50BD3F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FDB7-9035-48F2-9036-AE672DCA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7135-E28D-4696-AFB8-18B03B69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C978-7AD2-4C25-90A0-6637691E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FFD-1A6E-41B9-89CB-65C118F4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9BF4-6A25-430C-B4D7-E84DCE1A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4422-3680-4C92-8583-93B73EB5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ADAE-E771-47A3-8479-FC49597E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66A1-93E0-46C4-9EC3-5A8255DD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7AF9-FC5E-4856-B608-0199AF51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39C7-0D6E-4D79-91A9-CA9C4B17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26CB-542A-49BA-9CF2-1705F872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0418-34BE-4608-B44A-B8B58A94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79A-37B8-4B17-829D-2953EA4B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7EBB-41BA-4AD4-A85D-A76638E0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564B-DEF8-42AC-ADEC-AF1565FE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15D7-EDB0-4C90-A0FF-C32ED21D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5F91-22A6-473D-A520-309809563E03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53" name="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192" name="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B81F-7E7A-4B7D-8A0A-953DF10E6CC2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Newton’s 3 Laws of Motion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r Isaac Newton was sitting under an apple tree one day, when an apple fell and hit him on the head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did he discover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is happening here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12" name="j0078797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1892160" cy="1694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114800" y="297180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24382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ternal Force – The ball is moving because the person kicked i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5" name="SL01395_" descr=""/>
          <p:cNvPicPr/>
          <p:nvPr/>
        </p:nvPicPr>
        <p:blipFill>
          <a:blip r:embed="rId2"/>
          <a:stretch/>
        </p:blipFill>
        <p:spPr>
          <a:xfrm>
            <a:off x="1295280" y="4191120"/>
            <a:ext cx="1319400" cy="19126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743200" y="5105520"/>
            <a:ext cx="1752480" cy="304560"/>
          </a:xfrm>
          <a:prstGeom prst="leftArrow">
            <a:avLst>
              <a:gd name="adj1" fmla="val 50000"/>
              <a:gd name="adj2" fmla="val 143853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45720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ternal Force – The girl is moving because her body is generating power to move he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3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is bringing the balloon back to earth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19" name="j0145483" descr=""/>
          <p:cNvPicPr/>
          <p:nvPr/>
        </p:nvPicPr>
        <p:blipFill>
          <a:blip r:embed="rId1"/>
          <a:stretch/>
        </p:blipFill>
        <p:spPr>
          <a:xfrm>
            <a:off x="2590920" y="2816280"/>
            <a:ext cx="3200400" cy="211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133720" y="5410080"/>
            <a:ext cx="4876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av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Su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4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type of tree was Sir Isaac Newton sitting under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Orang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Pe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. App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. Coconu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3" name="BD06568_" descr=""/>
          <p:cNvPicPr/>
          <p:nvPr/>
        </p:nvPicPr>
        <p:blipFill>
          <a:blip r:embed="rId5"/>
          <a:stretch/>
        </p:blipFill>
        <p:spPr>
          <a:xfrm>
            <a:off x="4648320" y="3089160"/>
            <a:ext cx="32004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5   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 The skis are sliding against the snow slowing them down. This is an example of Friction. 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Tr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Fal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6" name="PE02593_" descr=""/>
          <p:cNvPicPr/>
          <p:nvPr/>
        </p:nvPicPr>
        <p:blipFill>
          <a:blip r:embed="rId3"/>
          <a:stretch/>
        </p:blipFill>
        <p:spPr>
          <a:xfrm>
            <a:off x="5205240" y="3505320"/>
            <a:ext cx="2694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ravity, Right!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ton had 3 laws that tell us how things in the world mov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y object that is moving will keep moving, and any object that is not moving will stay still, unless something else acts upon i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bigger an object is the harder it is to move  (F=M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ry action has an equal and opposite rea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Newton’s 1</a:t>
            </a:r>
            <a:r>
              <a:rPr b="0" lang="en-US" sz="4400" spc="-1" strike="noStrike" baseline="30000">
                <a:solidFill>
                  <a:srgbClr val="edd39f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 Law of Motion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you put a soccer ball in a field and walk away until another day, it will still be there the next day  unless someone or something moves it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8" name="PE00998_" descr=""/>
          <p:cNvPicPr/>
          <p:nvPr/>
        </p:nvPicPr>
        <p:blipFill>
          <a:blip r:embed="rId2"/>
          <a:stretch/>
        </p:blipFill>
        <p:spPr>
          <a:xfrm>
            <a:off x="4648320" y="2274840"/>
            <a:ext cx="38098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nly 2 Things Can Move That Ball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rav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you put the ball on a hill gravity will pull the ball down the hill causing it to mov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External Forc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– You kicking the ball will set it into 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Internal Forc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– The ball would need a motor like a c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ich force does the ball need to make it roll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1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are the 2 things that can move a ball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Gravity and Sp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Force and Grav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. Pushing and Pull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makes the ball stop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ton said that an object that is moving will keep moving unless something makes it stop.  What is that something that would make it stop moving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7" name="SL01040_" descr=""/>
          <p:cNvPicPr/>
          <p:nvPr/>
        </p:nvPicPr>
        <p:blipFill>
          <a:blip r:embed="rId2"/>
          <a:stretch/>
        </p:blipFill>
        <p:spPr>
          <a:xfrm>
            <a:off x="4648320" y="2271600"/>
            <a:ext cx="3809880" cy="38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nly 2 things will make the ball stop rolling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ri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riction is anything that rubs against an object and slows it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amples ar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as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in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ist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istance is any thing that pushes against an object and slows it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amples ar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You trapping the ba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You kicking the ball in a new direc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You catching the ba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estion 2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s an example of fricti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 Gr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 Wi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. Wa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. All of the abo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What is happening here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05" name="SO00350_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739880" cy="17337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362320" y="281952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198108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istance – The tackler is pushing against the runner slowing him down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8" name="SO00299_" descr=""/>
          <p:cNvPicPr/>
          <p:nvPr/>
        </p:nvPicPr>
        <p:blipFill>
          <a:blip r:embed="rId2"/>
          <a:stretch/>
        </p:blipFill>
        <p:spPr>
          <a:xfrm>
            <a:off x="5638680" y="3962520"/>
            <a:ext cx="2198880" cy="14666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343400" y="5257800"/>
            <a:ext cx="1828800" cy="304920"/>
          </a:xfrm>
          <a:prstGeom prst="rightArrow">
            <a:avLst>
              <a:gd name="adj1" fmla="val 50000"/>
              <a:gd name="adj2" fmla="val 149941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44956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riction – The skis are sliding against the snow slowing them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lmer sarah</cp:lastModifiedBy>
  <dcterms:modified xsi:type="dcterms:W3CDTF">2007-11-27T01:58:10Z</dcterms:modified>
  <cp:revision>6</cp:revision>
  <dc:subject/>
  <dc:title>Newton’s 3 Laws of Motion</dc:title>
</cp:coreProperties>
</file>