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5AE-A182-4650-BF82-1B744FEB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500-EDB4-4A28-AEE8-27E5FE8B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ABB-8B94-4FE0-B490-7663CF3A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BCD-9EE3-49DF-8D1A-54A77E2F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E15E-63B5-46D7-9D68-074B3E44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46B3-E027-4278-B63B-96363E24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78EB-B5ED-4132-8C36-B765E03F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081A-1378-4634-98E2-5356B522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65EE-8CAF-45BA-B07F-86E0B73F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48CB-BE74-4A9C-9355-D8926AE0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27F0-4539-42D5-93FD-8B8360B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EA6-4CD0-48F7-8F66-991BABD7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6ACD-6C3C-42C1-B19C-BF225AA5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AF75-D86E-46EA-A9D6-BCF16FE6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698-5479-4083-857A-C0914655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B8C8-EB04-41AA-B069-2B1B4980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9484-AFE3-413B-B805-B0217D0D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47C-BF62-436E-8A97-0F6509D3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4C8-D7B3-440A-9A94-380EA582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7C8-5689-4BDD-9495-68F1A106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5E6-CAF2-4B76-A398-BA9D8464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8BE-65BF-4B57-BA91-1181AD6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6A5-5D84-4CB1-AA36-E2A9B484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699-B56B-4EBE-85A4-7D5676B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46F2-0206-4692-841A-61FDC79B1AA8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D1A3-9162-4A3A-B724-72F73E07D9FF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3 Laws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r Isaac Newton was sitting under an apple tree one day, when an apple fell and hit him on the hea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id he discove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2" name="j0078797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1892160" cy="1694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14800" y="29718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2438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Force – The ball is moving because the person kicked 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SL01395_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1319400" cy="1912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743200" y="5105520"/>
            <a:ext cx="1752480" cy="304560"/>
          </a:xfrm>
          <a:prstGeom prst="leftArrow">
            <a:avLst>
              <a:gd name="adj1" fmla="val 50000"/>
              <a:gd name="adj2" fmla="val 143853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4572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nal Force – The girl is moving because her body is generating power to move h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3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bringing the balloon back to earth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9" name="j0145483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200400" cy="211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33720" y="54100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type of tree was Sir Isaac Newton sitting under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Orang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P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Ap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Coconu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BD06568_" descr=""/>
          <p:cNvPicPr/>
          <p:nvPr/>
        </p:nvPicPr>
        <p:blipFill>
          <a:blip r:embed="rId5"/>
          <a:stretch/>
        </p:blipFill>
        <p:spPr>
          <a:xfrm>
            <a:off x="4648320" y="3089160"/>
            <a:ext cx="3200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5   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The skis are sliding against the snow slowing them down. This is an example of Friction.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Tr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al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PE02593_" descr=""/>
          <p:cNvPicPr/>
          <p:nvPr/>
        </p:nvPicPr>
        <p:blipFill>
          <a:blip r:embed="rId3"/>
          <a:stretch/>
        </p:blipFill>
        <p:spPr>
          <a:xfrm>
            <a:off x="5205240" y="3505320"/>
            <a:ext cx="2694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vity, Right!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ton had 3 laws that tell us how things in the world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object that is moving will keep moving, and any object that is not moving will stay still, unless something else acts upon 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igger an object is the harder it is to move  (F=M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 action has an equal and opposite re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1</a:t>
            </a:r>
            <a:r>
              <a:rPr b="0" lang="en-US" sz="4400" spc="-1" strike="noStrike" baseline="30000">
                <a:solidFill>
                  <a:srgbClr val="edd39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Law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put a soccer ball in a field and walk away until another day, it will still be there the next day  unless someone or something moves i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E00998_" descr=""/>
          <p:cNvPicPr/>
          <p:nvPr/>
        </p:nvPicPr>
        <p:blipFill>
          <a:blip r:embed="rId2"/>
          <a:stretch/>
        </p:blipFill>
        <p:spPr>
          <a:xfrm>
            <a:off x="4648320" y="2274840"/>
            <a:ext cx="3809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Can Move That Ball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put the ball on a hill gravity will pull the ball down the hill causing it to mo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x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You kicking the ball will set it into 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n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The ball would need a motor like a c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ch force does the ball need to make it rol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re the 2 things that can move a b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vity and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orce and 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Pushing and Pul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makes the ball stop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ton said that an object that is moving will keep moving unless something makes it stop.  What is that something that would make it stop mov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SL01040_" descr=""/>
          <p:cNvPicPr/>
          <p:nvPr/>
        </p:nvPicPr>
        <p:blipFill>
          <a:blip r:embed="rId2"/>
          <a:stretch/>
        </p:blipFill>
        <p:spPr>
          <a:xfrm>
            <a:off x="4648320" y="2271600"/>
            <a:ext cx="380988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will make the ball stop rolling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is anything that rub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a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is any thing that pushe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trapp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kicking the ball in a new dire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catch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an example of fric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Wi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Wa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All of the abo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5" name="SO00350_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739880" cy="1733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62320" y="281952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19810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– The tackler is pushing against the runner slowing him dow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SO00299_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198880" cy="1466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343400" y="5257800"/>
            <a:ext cx="1828800" cy="304920"/>
          </a:xfrm>
          <a:prstGeom prst="rightArrow">
            <a:avLst>
              <a:gd name="adj1" fmla="val 50000"/>
              <a:gd name="adj2" fmla="val 149941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– The skis are sliding against the snow slowing them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lmer sarah</cp:lastModifiedBy>
  <dcterms:modified xsi:type="dcterms:W3CDTF">2007-11-27T01:58:10Z</dcterms:modified>
  <cp:revision>6</cp:revision>
  <dc:subject/>
  <dc:title>Newton’s 3 Laws of Motion</dc:title>
</cp:coreProperties>
</file>