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531A-4E49-4A61-AF24-7E4010B2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3791-976E-44CC-9128-1FD4E5F1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67D-4DE7-4918-9919-2F55FF4B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DF74-FC6C-491C-9EAC-C715891A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7818-B31F-4694-B33E-FDBEFA41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E829-EED7-4B77-BE08-AB51C974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AC44-110E-45FB-A665-942AE400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4944-C5E8-4E4A-8148-1ABAE66E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63B9-81C3-419E-991A-3B495E45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24F9-84C1-4D19-BB64-46CECA67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F680-0C0A-42DD-8398-E4C520AF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DD7-EC19-47E0-BDF7-AD26E424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AB65-DC74-4384-974A-542A4B89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5BDE-DC44-415D-AE39-75BF9E2C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890A-8BCE-4932-AF0B-2F4F1B32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3707-0254-46F3-8A94-ED33E621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109B-53D1-427A-99EF-74FE6BD4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B85-8AF6-4B90-BDD4-93141B69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A8C-AA7E-4D05-BCED-B392AAE9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C8F-F221-4A38-8EC7-715DF331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6F5-7AA9-4958-9103-88BF51A9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4DA-7DCC-4D71-93D7-13694A2A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71A3-E622-4CA9-B208-6D248769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2F7-9463-4EB5-93D2-BF71B8E6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343A-4AFE-4F5E-A2DE-C91598CA0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4F7B-6D37-48E5-8FD2-E9F39AA0C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.E. KNOWLED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UCH DO YOU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describes the critical element of a pathway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RUNNING DOWN THE                                BLACK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RUNNING IN A STRAIGHT LINE DOWN THE BLACK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hit a baseball with a bat farther than you can hit a playground ball is an example of what la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arder you throw a magic club ball against the wall the faster if comes back to you.  This is an example of what la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aseball stays on the batting tee until you swing and hit it.  Which law is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lo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exercise and burn more calories than you take in what happens to your bod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Gain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Weight stays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Lose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lo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eat and take in more calories than you burn what is the resul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Weight stays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Gain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Lose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ases of an aerobic worko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ONE of an aerobic workout is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ooling down to res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from resting to a warm u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target z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ases of an aerobic worko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 TWO of an aerobic workout could be described as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 In the target zone, aerobic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A Heart rate of 210 or 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  Cooling D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ases of an aerobic worko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THREE of an aerobic workout could be described as…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Heart Rate between 160-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Aerobic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ooling Down to resting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In the Target Z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95280" y="1219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gratulations You Have Finished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ovascular Fitness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it and 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ile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cle Endurance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it and 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Pacer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cle Strength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Pacer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ile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ility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it and 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Push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5960" y="1819440"/>
            <a:ext cx="620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should you exercise in a wee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98560" y="2895480"/>
            <a:ext cx="519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times a we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times a we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3680" y="1743120"/>
            <a:ext cx="51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hard do you need to exerci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280" y="3048120"/>
            <a:ext cx="390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n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360" y="1743120"/>
            <a:ext cx="46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long should you exerci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26800" y="2936880"/>
            <a:ext cx="19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51920" y="1895400"/>
            <a:ext cx="524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the two types of exerci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8520" y="3089160"/>
            <a:ext cx="35701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erobic and Anaerob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e and Pa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ength and Endu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21:21:52Z</dcterms:created>
  <dc:creator>Guest</dc:creator>
  <dc:description/>
  <dc:language>en-US</dc:language>
  <cp:lastModifiedBy>FCPS</cp:lastModifiedBy>
  <dcterms:modified xsi:type="dcterms:W3CDTF">2008-02-20T19:17:03Z</dcterms:modified>
  <cp:revision>8</cp:revision>
  <dc:subject/>
  <dc:title>P.E. KNOWLEDGE</dc:title>
</cp:coreProperties>
</file>