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0BAD-0CE0-4ED1-AF01-AAE99000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DD80-0B40-4B76-86BF-738236EB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891E-01AF-491C-97CE-D52C706C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BCDA-0543-43F3-ACF2-232371C9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17ED-D8BF-4A48-8965-E4F4E621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D70D-3445-445D-B04F-926919D0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D194-3A0E-4E2A-BD4C-85A9FED6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35FA-41F2-40A8-B9A1-32711F68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9607-A21A-4714-8585-A649521B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7A2D-A0B1-4A51-81F1-7E84688A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73E3-0247-4554-8688-E1841FE6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06B5-E00B-404C-9E70-FDB04AD7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9C53-5F65-4586-8FCC-99E6717F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F510-6360-4705-98D0-90C14968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DC8B-FF69-4B79-8D1D-88CFE0BF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9D7C-6837-4980-9909-8FD734AA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936F-7383-4268-864A-70D3E91E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CFD0-2CC1-4D26-AF69-292E1579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1108-4358-4E94-A9BD-5D48B4C1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7A5-D348-4725-A7D8-A614B3F0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F789-2DCB-4B6F-99AB-6A10AED3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679F-3C30-4C2A-BBA2-74CD6B79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D431-AF89-42B6-B0FE-3A648743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7E1-77D2-4C54-985B-BC1874EC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3881-77D2-44FC-8A7E-250054A7A2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3344-0CEC-4DF3-AF12-E24EB7EDA4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.E. KNOWLED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UCH DO YOU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V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describes the critical element of a pathway…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RUNNING DOWN THE                                BLACKT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RUNNING IN A STRAIGHT LINE DOWN THE BLACKT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hit a baseball with a bat farther than you can hit a playground ball is an example of what la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arder you throw a magic club ball against the wall the faster if comes back to you.  This is an example of what la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aseball stays on the batting tee until you swing and hit it.  Which law is th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alor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exercise and burn more calories than you take in what happens to your bod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Gain 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Weight stays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Lose 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alor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eat and take in more calories than you burn what is the resul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Weight stays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Gain 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Lose 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ases of an aerobic worko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se ONE of an aerobic workout is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ooling down to res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from resting to a warm u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target z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ases of an aerobic worko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 TWO of an aerobic workout could be described as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 In the target zone, aerobic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 A Heart rate of 210 or m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.  Cooling D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ases of an aerobic worko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se THREE of an aerobic workout could be described as…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Heart Rate between 160-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Aerobic 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ooling Down to resting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In the Target Z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95280" y="1219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gratulations You Have Finished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NESS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diovascular Fitness is tested during which fitness t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url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Sit and 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hin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Mile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NESS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cle Endurance is tested during which fitness t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url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Sit and 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hin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Pacer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NESS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cle Strength is tested during which fitness t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url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Pacer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hin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Mile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NESS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ility is tested during which fitness t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url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Sit and 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hin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Push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T PRINIC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5960" y="1819440"/>
            <a:ext cx="620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often should you exercise in a wee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98560" y="2895480"/>
            <a:ext cx="519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times a we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times a we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T PRINIC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3680" y="1743120"/>
            <a:ext cx="51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hard do you need to exerci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280" y="3048120"/>
            <a:ext cx="390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n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T PRINIC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360" y="1743120"/>
            <a:ext cx="46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long should you exerci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26800" y="2936880"/>
            <a:ext cx="198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T PRINIC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51920" y="1895400"/>
            <a:ext cx="524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the two types of exerci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8520" y="3089160"/>
            <a:ext cx="35701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erobic and Anaerobi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e and Pa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ength and Endu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21:21:52Z</dcterms:created>
  <dc:creator>Guest</dc:creator>
  <dc:description/>
  <dc:language>en-US</dc:language>
  <cp:lastModifiedBy>FCPS</cp:lastModifiedBy>
  <dcterms:modified xsi:type="dcterms:W3CDTF">2008-02-20T19:17:03Z</dcterms:modified>
  <cp:revision>8</cp:revision>
  <dc:subject/>
  <dc:title>P.E. KNOWLEDGE</dc:title>
</cp:coreProperties>
</file>