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143-259A-44E3-B877-A77C90FE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BD6-6B07-4F1C-8422-23E5B810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95E-4C48-4BF9-B791-026DCB15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F98-F39A-411C-A668-A76A1F72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52DE-D404-4E65-82A6-73D37567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1BFD-F5D3-4FC5-8AED-1DD4ABB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5816-C2E0-4BE4-8CCC-521065E9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97ED-8ECF-4975-9E37-2B6908CA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7EB3-F9FF-4323-828A-008AE52F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134E-4203-4BEB-A82B-0BE2BB4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1118-F235-4049-8802-30436E1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D4B-3742-454E-9770-A18FD8B2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5007-5F69-420B-94AB-50EC172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9C1-75D6-4652-A79C-D0183E0C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014-FCCF-4F92-8C1F-8D258AF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0CA3-8F9A-486C-A50D-2399FCC4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F016-9ADA-4260-BEEF-1CDF7890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01B-F9BF-4157-87E1-B4A853D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6C2-D474-4DD5-8B4A-85C4B41D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028-00E9-4F75-9D50-A358854E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063-53F1-44D9-8175-B281C31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499-927B-47FC-953F-C5FDE38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326-56E8-4898-A2A4-CB8E9AF2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A6D-F4FA-4D5A-BD8B-9E609C9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F471-6676-402B-BAF0-9DBDA4B4B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FF0-9BDD-4EB1-A274-E0FF15815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.E. KNOWLE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describes the critical element of a pathway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RUNNING DOWN THE                               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UNNING IN A STRAIGHT LINE DOWN THE BLAC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it a baseball with a bat farther than you can hit a playground ball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er you throw a magic club ball against the wall the faster if comes back to you.  This is an example of what l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seball stays on the batting tee until you swing and hit it.  Which law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xercise and burn more calories than you take in what happens to your bo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eat and take in more calories than you burn what is the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Weight stay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Gain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se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ONE of an aerobic workout i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oling down to r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rom resting to a warm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TWO of an aerobic workout could be described as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In the target zone, aerobic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A Heart rate of 210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Cool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ases of an aerobic work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THREE of an aerobic workout could be described as…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eart Rate between 160-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erob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oling Down to resting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In the Targe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ratulations You Have Finish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Fitness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Endurance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Strength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acer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il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NESS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tested during which fitness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url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it and 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hin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ush 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5960" y="1819440"/>
            <a:ext cx="62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should you exercise in a wee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895480"/>
            <a:ext cx="51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imes a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3680" y="1743120"/>
            <a:ext cx="51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hard do you need to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30481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174312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should you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6800" y="2936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TT PRINIC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1920" y="1895400"/>
            <a:ext cx="52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wo types of exerc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520" y="3089160"/>
            <a:ext cx="3570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bic and Anaerob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e and P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 and End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21:52Z</dcterms:created>
  <dc:creator>Guest</dc:creator>
  <dc:description/>
  <dc:language>en-US</dc:language>
  <cp:lastModifiedBy>FCPS</cp:lastModifiedBy>
  <dcterms:modified xsi:type="dcterms:W3CDTF">2008-02-20T19:17:03Z</dcterms:modified>
  <cp:revision>8</cp:revision>
  <dc:subject/>
  <dc:title>P.E. KNOWLEDGE</dc:title>
</cp:coreProperties>
</file>