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ACA-E6E9-4D50-A2A8-AFF24A7C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1F0-41D1-4162-8ADD-D239B31E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CFF-65EB-41C0-8027-C3F81D4D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390-2A87-4FA0-83F4-5BCF0293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F76D-AE44-47BA-AEDD-2C79831B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3CD5-15F2-4406-BCF9-DD4A6782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BC27-867D-4E87-B642-D1D738BA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1E0F-1FEB-4AB0-A637-635FECD0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E9E9-37E8-4B8F-9391-2300D299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9923-2920-4EA8-9513-0349F30A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1488-4B76-4028-9C15-DA5B94C9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FC8-4D60-4B58-A853-B76D8CBA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1689-9540-4177-8A09-A550156B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840A-59A6-47A2-A16E-0B337B2E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FE0B-E712-4DD9-84CF-D4AEE590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626E-0DC6-4931-967F-8DF41481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4C71-10E1-46BC-81DF-FEB6FFDC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E08-05F8-43C2-A4F7-9988BF57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90F9-EA08-4F75-BE03-1E919751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D8DB-50C4-469D-AE9B-019A2892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4E2-4057-4F3D-A070-C1CD8A00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4E8-B397-4D6D-93AD-3368333D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B9C-9BDB-4B78-A451-325958E1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FD0-7C34-4359-94B3-4C78FD45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1C85-EED7-4431-9234-0B52D8805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89FF-D5B6-4A6D-ACC1-1BC404725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.E. KNOWLED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UCH DO YOU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describes the critical element of a pathway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RUNNING DOWN THE                                BLACK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RUNNING IN A STRAIGHT LINE DOWN THE BLACK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hit a baseball with a bat farther than you can hit a playground ball is an example of what la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rder you throw a magic club ball against the wall the faster if comes back to you.  This is an example of what la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seball stays on the batting tee until you swing and hit it.  Which law is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lo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exercise and burn more calories than you take in what happens to your bod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ain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Weight stays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Lose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lo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eat and take in more calories than you burn what is the resul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Weight stays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Gain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Lose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ONE of an aerobic workout is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ooling down to r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from resting to a warm u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target z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TWO of an aerobic workout could be described as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In the target zone, aerobic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A Heart rate of 210 or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 Cooling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THREE of an aerobic workout could be described as…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Heart Rate between 160-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Aerobic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ooling Down to resting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In the Target Z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1219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gratulations You Have Finished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Fitness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ile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le Endurance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Pacer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le Strength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Pacer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ile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ility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Push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5960" y="1819440"/>
            <a:ext cx="62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should you exercise in a wee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98560" y="2895480"/>
            <a:ext cx="519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times a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times a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3680" y="1743120"/>
            <a:ext cx="51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hard do you need to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304812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n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360" y="1743120"/>
            <a:ext cx="46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long should you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26800" y="2936880"/>
            <a:ext cx="19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1920" y="1895400"/>
            <a:ext cx="524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e two types of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8520" y="3089160"/>
            <a:ext cx="35701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erobic and Anaerob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e and Pa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ngth and Endu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21:21:52Z</dcterms:created>
  <dc:creator>Guest</dc:creator>
  <dc:description/>
  <dc:language>en-US</dc:language>
  <cp:lastModifiedBy>FCPS</cp:lastModifiedBy>
  <dcterms:modified xsi:type="dcterms:W3CDTF">2008-02-20T19:17:03Z</dcterms:modified>
  <cp:revision>8</cp:revision>
  <dc:subject/>
  <dc:title>P.E. KNOWLEDGE</dc:title>
</cp:coreProperties>
</file>