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8508B-25E7-4F5E-9474-26C8B72F7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44E0F-8754-427D-9C10-B581C91E5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87A04-DCD4-417F-A8A0-43EE8E30B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C1E72-1776-4661-9226-FA4F19482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CA3D7-9CE8-4196-AAC5-716EF0FEB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17256-64EE-47DD-A73A-AB2B51E36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2A233-BA2A-448B-A909-770C659A8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6756A-F604-49C4-AE7B-EA80D980A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75999-565A-445B-9DF5-F9F8AA5F3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C1CC9-5F00-4BD2-8425-EB30EBA92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7D48A-0506-4B28-B6ED-42B464F46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621B3-C92E-49A9-B3E8-D791FBFC5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0C483-40CD-4998-8775-4BFE959F51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920" y="2514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Microsoft Sans Serif"/>
              </a:rPr>
              <a:t>PROJECT ALERT-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Microsoft Sans Serif"/>
              </a:rPr>
              <a:t>Test Your Drug IQ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Erin McGra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7</a:t>
            </a:r>
            <a:r>
              <a:rPr b="0" lang="en-US" sz="3200" spc="-1" strike="noStrike" baseline="30000">
                <a:solidFill>
                  <a:srgbClr val="000000"/>
                </a:solidFill>
                <a:latin typeface="Microsoft Sans Serif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 Grade Health / T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math-problems" descr=""/>
          <p:cNvPicPr/>
          <p:nvPr/>
        </p:nvPicPr>
        <p:blipFill>
          <a:blip r:embed="rId1"/>
          <a:stretch/>
        </p:blipFill>
        <p:spPr>
          <a:xfrm>
            <a:off x="228600" y="4419720"/>
            <a:ext cx="2120760" cy="2179440"/>
          </a:xfrm>
          <a:prstGeom prst="rect">
            <a:avLst/>
          </a:prstGeom>
          <a:ln w="0">
            <a:noFill/>
          </a:ln>
        </p:spPr>
      </p:pic>
      <p:pic>
        <p:nvPicPr>
          <p:cNvPr id="44" name="einstruction" descr=""/>
          <p:cNvPicPr/>
          <p:nvPr/>
        </p:nvPicPr>
        <p:blipFill>
          <a:blip r:embed="rId2"/>
          <a:stretch/>
        </p:blipFill>
        <p:spPr>
          <a:xfrm>
            <a:off x="6647040" y="228600"/>
            <a:ext cx="21081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7.  Losing control when you are drunk or high means you may do something you wouldn’t do if you were not hig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388620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183800" y="304920"/>
            <a:ext cx="167868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QUESTION 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59920" y="304920"/>
            <a:ext cx="232668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Test Your Drug I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8.  Of everyone who has lung cancer, over 85% got it from smok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388620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183800" y="304920"/>
            <a:ext cx="167868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QUESTION 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9920" y="304920"/>
            <a:ext cx="232668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Test Your Drug I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9.  Alcohol can be deadly.  If you drink enough alcohol at one time, it can kill yo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388620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183800" y="304920"/>
            <a:ext cx="167868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QUESTION 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59920" y="304920"/>
            <a:ext cx="232668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Test Your Drug I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10.  Smoking just one cigarette a week can cause coughing, wheezing and excessive phlegm produc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388620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181280" y="304920"/>
            <a:ext cx="182520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QUESTION 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59920" y="304920"/>
            <a:ext cx="232668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Test Your Drug I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11.  Almost any drug, if used for a long time, causes physical or mental dependenc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388620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181280" y="304920"/>
            <a:ext cx="182520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QUESTION 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59920" y="304920"/>
            <a:ext cx="232668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Test Your Drug I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12.  It is legal to sell cigarettes to any teenag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388620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181280" y="304920"/>
            <a:ext cx="182520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QUESTION 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59920" y="304920"/>
            <a:ext cx="232668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Test Your Drug I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13.  Marijuana damages your lung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388620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181280" y="304920"/>
            <a:ext cx="182520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QUESTION 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59920" y="304920"/>
            <a:ext cx="232668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Test Your Drug I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14.  Heavy and chronic drinking can harm every organ and system in the bod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388620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181280" y="304920"/>
            <a:ext cx="182520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QUESTION 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920" y="304920"/>
            <a:ext cx="232668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Test Your Drug I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15.  Smoking relaxes you even when you’ve never tried cigarettes befo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388620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181280" y="304920"/>
            <a:ext cx="182520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QUESTION 1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59920" y="304920"/>
            <a:ext cx="232668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Test Your Drug I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16.  The main reason most teenagers continue to smoke cigarettes once they start 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388620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85000" indent="-5850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They think it makes them look coo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They like spending $ on cigarett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They like the way their breath smell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They are addict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181280" y="304920"/>
            <a:ext cx="182520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QUESTION 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59920" y="304920"/>
            <a:ext cx="232668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Test Your Drug I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920" y="2514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Microsoft Sans Serif"/>
              </a:rPr>
              <a:t>PROJECT ALERT-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Microsoft Sans Serif"/>
              </a:rPr>
              <a:t>Test Your Drug IQ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Erin McGra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7</a:t>
            </a:r>
            <a:r>
              <a:rPr b="0" lang="en-US" sz="3200" spc="-1" strike="noStrike" baseline="30000">
                <a:solidFill>
                  <a:srgbClr val="000000"/>
                </a:solidFill>
                <a:latin typeface="Microsoft Sans Serif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 Grade Health / T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math-problems" descr=""/>
          <p:cNvPicPr/>
          <p:nvPr/>
        </p:nvPicPr>
        <p:blipFill>
          <a:blip r:embed="rId1"/>
          <a:stretch/>
        </p:blipFill>
        <p:spPr>
          <a:xfrm>
            <a:off x="228600" y="4419720"/>
            <a:ext cx="2120760" cy="2179440"/>
          </a:xfrm>
          <a:prstGeom prst="rect">
            <a:avLst/>
          </a:prstGeom>
          <a:ln w="0">
            <a:noFill/>
          </a:ln>
        </p:spPr>
      </p:pic>
      <p:pic>
        <p:nvPicPr>
          <p:cNvPr id="48" name="einstruction" descr=""/>
          <p:cNvPicPr/>
          <p:nvPr/>
        </p:nvPicPr>
        <p:blipFill>
          <a:blip r:embed="rId2"/>
          <a:stretch/>
        </p:blipFill>
        <p:spPr>
          <a:xfrm>
            <a:off x="6647040" y="228600"/>
            <a:ext cx="21081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17.  Having a bad “high” on marijuana means you might feel anxious, scared, uptight, or even terrifi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388620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181280" y="304920"/>
            <a:ext cx="1825200" cy="703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QUESTION 1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9920" y="304920"/>
            <a:ext cx="232668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Test Your Drug I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18.  Advertisers try to make you believe that drinking alcohol wi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388620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60520" indent="-560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Make you more popul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0520" indent="-560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Make you throw 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0520" indent="-560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Make you look glamorous, sexy, or mach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0520" indent="-560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Get you addic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0520" indent="-560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Make you have a car cra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181280" y="304920"/>
            <a:ext cx="1825200" cy="703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QUESTION 1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59920" y="304920"/>
            <a:ext cx="232668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Test Your Drug I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19.  More than 4 in 5 smokers want to quit.  With a good smoking cessation program, 20-40% of the participants are able to quit and stay quit for at least one yea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388620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181280" y="304920"/>
            <a:ext cx="1825200" cy="703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QUESTION 1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59920" y="304920"/>
            <a:ext cx="232668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Test Your Drug I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20.  Marijuana smoke contains some of the same cancer causing and toxic substances as tobacco, sometimes in higher concentr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388620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181280" y="304920"/>
            <a:ext cx="1825200" cy="703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QUESTION 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59920" y="304920"/>
            <a:ext cx="232668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Test Your Drug I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21.  Marijuana is being cultivated to contain much higher THC content than it has when it grows in the wild.  THC content is often as high as 20%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388620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181280" y="304920"/>
            <a:ext cx="1825200" cy="703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QUESTION 2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59920" y="304920"/>
            <a:ext cx="232668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Test Your Drug I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22.  If a parent or other family member is an alcoholic, you are much more likely to become an addic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388620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181280" y="304920"/>
            <a:ext cx="1825200" cy="703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QUESTION 2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59920" y="304920"/>
            <a:ext cx="232668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Test Your Drug I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23.  People who smoke for many years are likely to devel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388620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-591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Bronchit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Lung ca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Heart dis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Cancer of the mouth, larynx, esophagus, or blad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181280" y="304920"/>
            <a:ext cx="1825200" cy="703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QUESTION 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59920" y="304920"/>
            <a:ext cx="232668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Test Your Drug I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24.  Because marijuana is a “natural” substance, it is a safe alternative to drug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388620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181280" y="304920"/>
            <a:ext cx="1825200" cy="703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QUESTION 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59920" y="304920"/>
            <a:ext cx="232668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Test Your Drug I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212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25.  Teenagers start smoking because o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388620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Pressure from pe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Pressure from ads on TV and rad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Pressure from themsel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Curio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181280" y="304920"/>
            <a:ext cx="1825200" cy="703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QUESTION 2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9920" y="304920"/>
            <a:ext cx="232668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Test Your Drug I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6212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26.  Teenagers drink beca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388620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566640" indent="-566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Their parents drin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They think it’s less harmful than other dru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Advertising makes it temp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They want to reb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181280" y="304920"/>
            <a:ext cx="1825200" cy="703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QUESTION 2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59920" y="304920"/>
            <a:ext cx="232668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Test Your Drug I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1.  Some people become dependent on marijuana or alcohol as a way to feel good or to escape their problem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388620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183800" y="304920"/>
            <a:ext cx="167868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QUESTION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59920" y="304920"/>
            <a:ext cx="232668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Test Your Drug I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2.  Tobacco is a highly addictive drug, which means the body becomes physically dependent non it very quick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388620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183800" y="304920"/>
            <a:ext cx="167868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QUESTION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59920" y="304920"/>
            <a:ext cx="232668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Test Your Drug I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3.  It’s more dangerous to drive when you’re drunk than when you’re high on drug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388620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183800" y="304920"/>
            <a:ext cx="167868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QUESTION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59920" y="304920"/>
            <a:ext cx="232668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Test Your Drug I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4.  Teenagers who smoke often have “smoker’s breath” and yellow teet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388620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183800" y="304920"/>
            <a:ext cx="167868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QUESTION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920" y="304920"/>
            <a:ext cx="232668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Test Your Drug I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4.  Teenagers who smoke often have “smoker’s breath” and yellow teet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388620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183800" y="304920"/>
            <a:ext cx="167868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QUESTION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59920" y="304920"/>
            <a:ext cx="232668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Test Your Drug I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5.  If someone offers you marijuana and you don’t want it, a good response is 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388620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-591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Say, “No, thanks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Make a scene and put him or her down for smoking marijuan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Say, “I don’t like what it does to me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Say, “Thanks a lot” and take a h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183800" y="304920"/>
            <a:ext cx="167868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QUESTION 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59920" y="304920"/>
            <a:ext cx="232668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Test Your Drug I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6.  People who smoke don’t become addicted to cigarettes until several years after they start smok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388620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183800" y="304920"/>
            <a:ext cx="167868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QUESTION 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59920" y="304920"/>
            <a:ext cx="232668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Test Your Drug I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6T16:34:29Z</dcterms:created>
  <dc:creator>Michael Hakkarinen</dc:creator>
  <dc:description/>
  <dc:language>en-US</dc:language>
  <cp:lastModifiedBy>cps4pe</cp:lastModifiedBy>
  <dcterms:modified xsi:type="dcterms:W3CDTF">2007-11-12T15:26:25Z</dcterms:modified>
  <cp:revision>29</cp:revision>
  <dc:subject/>
  <dc:title>MSA Math Practice: Session 1</dc:title>
</cp:coreProperties>
</file>