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BBE-3A69-42EF-A0F9-117C456C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9B3-F857-4EFC-AD71-2C74D512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FBE-3B8F-41CD-8CC4-E7BD326A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E5D-5A68-4E58-89C3-6ABB7179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8C1-89F8-4CED-ACC3-2C7F71AC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EBE-23F0-422D-81ED-28A7BF53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E6B-F7D0-41F5-8EC4-31E00BB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016-36A1-4FF4-BA4B-7B520AC6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A03-306D-49F3-AF53-163DFF5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E15-D47D-4F91-9696-974C2B6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557-33A2-4FD7-AE78-65C8DF93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E0E-E1C9-4F34-9827-58D439DB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505-D8B8-45A3-BE7C-7C65CE752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.  Losing control when you are drunk or high means you may do something you wouldn’t do if you were not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8.  Of everyone who has lung cancer, over 85% got it from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9.  Alcohol can be deadly.  If you drink enough alcohol at one time, it can kill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0.  Smoking just one cigarette a week can cause coughing, wheezing and excessive phlegm 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1.  Almost any drug, if used for a long time, causes physical or mental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2.  It is legal to sell cigarettes to any tee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3.  Marijuana damages your lu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4.  Heavy and chronic drinking can harm every organ and system 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5.  Smoking relaxes you even when you’ve never tried cigarettes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6.  The main reason most teenagers continue to smoke cigarettes once they star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think it makes them look c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spending $ on cigaret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the way their breath sm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are addi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8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7.  Having a bad “high” on marijuana means you might feel anxious, scared, uptight, or even terr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8.  Advertisers try to make you believe that drinking alcohol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more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thr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look glamorous, sexy, or m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Get you add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have a ca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9.  More than 4 in 5 smokers want to quit.  With a good smoking cessation program, 20-40% of the participants are able to quit and stay quit for at least on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0.  Marijuana smoke contains some of the same cancer causing and toxic substances as tobacco, sometimes in higher concen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1.  Marijuana is being cultivated to contain much higher THC content than it has when it grows in the wild.  THC content is often as high as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2.  If a parent or other family member is an alcoholic, you are much more likely to become an add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3.  People who smoke for many years are likely to 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ronch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ung ca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cer of the mouth, larynx, esophagus, or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4.  Because marijuana is a “natural” substance, it is a safe alternative to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5.  Teenagers start smoking becaus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ads on TV and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6.  Teenagers drink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ir parents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think it’s less harmful than othe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dvertising makes it tem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want to re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.  Some people become dependent on marijuana or alcohol as a way to feel good or to escape their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.  Tobacco is a highly addictive drug, which means the body becomes physically dependent non it very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.  It’s more dangerous to drive when you’re drunk than when you’re high on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5.  If someone offers you marijuana and you don’t want it, a good response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No, thank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a scene and put him or her down for smoking mariju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I don’t like what it does to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Thanks a lot” and take a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6.  People who smoke don’t become addicted to cigarettes until several years after they start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5:26:25Z</dcterms:modified>
  <cp:revision>29</cp:revision>
  <dc:subject/>
  <dc:title>MSA Math Practice: Session 1</dc:title>
</cp:coreProperties>
</file>