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3BB-FE05-47E4-8CEE-2AEFE9BC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1AA-D512-47CE-84A9-5752826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CE8-AEED-4839-86EA-C259E516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48D-444C-44DD-B171-5C47A16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8F7-E307-4BCE-A331-CA96516A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293-BF2B-46CE-A1F9-776B1DF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166-9420-45EB-A068-8167C663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404-7A8B-45D9-8740-C8CAC86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2B7-43E5-4DCC-9F71-2241781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19E-E114-43CE-A172-21CB124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E0F-14EF-4DAF-B5C6-3DF4BE4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E2A-1E09-46DC-8D47-6C3A2A7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D197-2BB0-4888-B3D3-EA95B80C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.  Losing control when you are drunk or high means you may do something you wouldn’t do if you were not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8.  Of everyone who has lung cancer, over 85% got it from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9.  Alcohol can be deadly.  If you drink enough alcohol at one time, it can kill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0.  Smoking just one cigarette a week can cause coughing, wheezing and excessive phlegm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1.  Almost any drug, if used for a long time, causes physical or mental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2.  It is legal to sell cigarettes to any tee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3.  Marijuana damages your lu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.  Heavy and chronic drinking can harm every organ and system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5.  Smoking relaxes you even when you’ve never tried cigarette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6.  The main reason most teenagers continue to smoke cigarettes once they star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think it makes them look c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spending $ on cigaret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the way their breath sm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are addi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7.  Having a bad “high” on marijuana means you might feel anxious, scared, uptight, or even terr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8.  Advertisers try to make you believe that drinking alcoho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more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thr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look glamorous, sexy, or m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Get you add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have a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9.  More than 4 in 5 smokers want to quit.  With a good smoking cessation program, 20-40% of the participants are able to quit and stay quit for at least on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0.  Marijuana smoke contains some of the same cancer causing and toxic substances as tobacco, sometimes in higher concen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1.  Marijuana is being cultivated to contain much higher THC content than it has when it grows in the wild.  THC content is often as high as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2.  If a parent or other family member is an alcoholic, you are much more likely to become an add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3.  People who smoke for many years are likely to 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ronch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ung ca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cer of the mouth, larynx, esophagus, o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4.  Because marijuana is a “natural” substance, it is a safe alternative to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5.  Teenagers start smoking becaus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ads on TV and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6.  Teenagers drink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ir parents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think it’s less harmful than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dvertising makes it tem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want to re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.  Some people become dependent on marijuana or alcohol as a way to feel good or to escape thei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.  Tobacco is a highly addictive drug, which means the body becomes physically dependent non it very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.  It’s more dangerous to drive when you’re drunk than when you’re high on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5.  If someone offers you marijuana and you don’t want it, a good response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No, thank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a scene and put him or her down for smoking mariju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I don’t like what it does to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Thanks a lot” and take a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6.  People who smoke don’t become addicted to cigarettes until several years after they start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5:26:25Z</dcterms:modified>
  <cp:revision>29</cp:revision>
  <dc:subject/>
  <dc:title>MSA Math Practice: Session 1</dc:title>
</cp:coreProperties>
</file>