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EF9-188C-4C04-BCCC-09DEAAAC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A76-27BA-4FC4-A478-A8A5163D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6FE-B2EE-43BB-96C0-2EE26505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9D4-79CF-4D54-8C1A-09C890E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0D-4B92-4FCA-A030-267C7A2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C52-457A-471A-9EA2-3F02C49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53E-2675-4FA5-9CE7-574638C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140-6359-4FF0-9114-E0A5F401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85B-41F4-48B1-8040-F6A80ABB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73D-E50D-4F2E-8070-7481FED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8D1-A925-41F0-A1DC-BC2B786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D80-3044-4C08-BE85-C5B67D3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F2E-4E8B-43F7-A160-FF657A0B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4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.  Losing control when you are drunk or high means you may do something you wouldn’t do if you were not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8.  Of everyone who has lung cancer, over 85% got it from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9.  Alcohol can be deadly.  If you drink enough alcohol at one time, it can kill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0.  Smoking just one cigarette a week can cause coughing, wheezing and excessive phlegm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1.  Almost any drug, if used for a long time, causes physical or mental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2.  It is legal to sell cigarettes to any tee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3.  Marijuana damages your lu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.  Heavy and chronic drinking can harm every organ and system 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5.  Smoking relaxes you even when you’ve never tried cigarettes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6.  The main reason most teenagers continue to smoke cigarettes once they star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think it makes them look c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spending $ on cigaret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like the way their breath sm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ey are addi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1280" y="304920"/>
            <a:ext cx="1825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PROJECT ALERT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Erin McGr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icrosoft Sans Serif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 Grade Health / T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th-problems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12076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einstruction" descr=""/>
          <p:cNvPicPr/>
          <p:nvPr/>
        </p:nvPicPr>
        <p:blipFill>
          <a:blip r:embed="rId2"/>
          <a:stretch/>
        </p:blipFill>
        <p:spPr>
          <a:xfrm>
            <a:off x="6647040" y="228600"/>
            <a:ext cx="210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7.  Having a bad “high” on marijuana means you might feel anxious, scared, uptight, or even terr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8.  Advertisers try to make you believe that drinking alcohol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more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thr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look glamorous, sexy, or m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Get you add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you have a ca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9.  More than 4 in 5 smokers want to quit.  With a good smoking cessation program, 20-40% of the participants are able to quit and stay quit for at least on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0.  Marijuana smoke contains some of the same cancer causing and toxic substances as tobacco, sometimes in higher concen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1.  Marijuana is being cultivated to contain much higher THC content than it has when it grows in the wild.  THC content is often as high as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2.  If a parent or other family member is an alcoholic, you are much more likely to become an add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3.  People who smoke for many years are likely to 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ronch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ung ca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ancer of the mouth, larynx, esophagus, o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4.  Because marijuana is a “natural” substance, it is a safe alternative to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5.  Teenagers start smoking becaus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ads on TV and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essure fro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6.  Teenagers drink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ir parents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think it’s less harmful than othe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dvertising makes it tem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ey want to re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81280" y="304920"/>
            <a:ext cx="1825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.  Some people become dependent on marijuana or alcohol as a way to feel good or to escape their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.  Tobacco is a highly addictive drug, which means the body becomes physically dependent non it very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.  It’s more dangerous to drive when you’re drunk than when you’re high on dr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.  Teenagers who smoke often have “smoker’s breath” and yellow tee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5.  If someone offers you marijuana and you don’t want it, a good response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No, thank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ake a scene and put him or her down for smoking mariju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I don’t like what it does to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ay, “Thanks a lot” and take a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6.  People who smoke don’t become addicted to cigarettes until several years after they start sm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83800" y="304920"/>
            <a:ext cx="167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QUEST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920" y="304920"/>
            <a:ext cx="2326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est Your Drug 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cps4pe</cp:lastModifiedBy>
  <dcterms:modified xsi:type="dcterms:W3CDTF">2007-11-12T15:26:25Z</dcterms:modified>
  <cp:revision>29</cp:revision>
  <dc:subject/>
  <dc:title>MSA Math Practice: Session 1</dc:title>
</cp:coreProperties>
</file>