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61B-8DC7-4854-9632-3AD2C554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1E4-B9AA-4A52-A78D-50E79AB8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D89-56CB-454D-BFF2-085C08AA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A0E-A447-4F2D-AD38-1FB0882B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05D-F3A9-4D65-9AFF-C46C0571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BDE-7122-403C-953A-1DEEC76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615-F23E-4AB8-979C-F1E7990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B62-75A3-4218-9E9F-35C3FBEA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CF1-38E0-4ECC-9B75-52576CC0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869-24AB-4E35-8DC7-A33AEFA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0A1-2BEA-46CA-A48B-F55807C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F3F-FF12-4103-8BF0-2AF74B6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DE4-AB3D-4C8B-BB90-55D48E0F7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8840" y="20570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31237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arah Pa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mmitsburg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4960" y="304920"/>
            <a:ext cx="1334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Volleyball uses the following techniq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p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3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Each volley begins with a play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pi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ass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oc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rv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040" y="21333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In an “official game”, the volleyball can only be touched ____ times before it must be returned over the n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 volleyball is made from leather, or synthetic leather, and is filled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l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11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each Volleyball is an Olympic s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fcps</cp:lastModifiedBy>
  <dcterms:modified xsi:type="dcterms:W3CDTF">2008-02-20T18:25:04Z</dcterms:modified>
  <cp:revision>8</cp:revision>
  <dc:subject/>
  <dc:title>MSA Math Practice: Session 1</dc:title>
</cp:coreProperties>
</file>