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FD0-F228-43D0-BB1A-34D9D21B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7A6-2E5E-4BF0-B742-35C2F212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65B-9660-4D79-83BC-346B296E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513-664E-4FC5-8852-42359FC7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B72-000B-45ED-BDFC-1108EA2B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DD2-1159-4E3F-9306-D98EF708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713-E93F-490B-A0AC-BCB20520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022-1C48-4428-80A6-304CD901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6E2-5FF8-40B8-AF26-1FDDC757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826-4C78-4251-AE38-C184D85C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112-6542-4129-95B1-01C62238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8F2-B38F-401D-A4FD-CA16CC4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CC5C-9455-45BF-ACD2-B2FBFAED5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8840" y="20570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31237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arah Pal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mmitsburg E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4960" y="304920"/>
            <a:ext cx="1334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Volleyball uses the following techniqu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pi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3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Each volley begins with a play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pi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ass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oc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rv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6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0040" y="21333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In an “official game”, the volleyball can only be touched ____ times before it must be returned over the n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2181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 volleyball is made from leather, or synthetic leather, and is filled wit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s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l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31129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each Volleyball is an Olympic s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244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fcps</cp:lastModifiedBy>
  <dcterms:modified xsi:type="dcterms:W3CDTF">2008-02-20T18:25:04Z</dcterms:modified>
  <cp:revision>8</cp:revision>
  <dc:subject/>
  <dc:title>MSA Math Practice: Session 1</dc:title>
</cp:coreProperties>
</file>