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A1D9-FBB2-464F-AA56-0252ECB76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35CC-5A7B-49FF-BF94-627DF600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554F-08C0-4409-8CC6-F0E38FAFF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1A0E-04DD-403A-8EE1-62120C004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CB3E-A718-4D09-B41C-FB84B9AE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7A63-1FF2-47C1-BD3B-629C9AA3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0FEB-3EE0-4493-8C28-D688B84C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6DBA-C915-491D-A1DE-DA079255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C23D-8563-48DA-9F39-8D215368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9727-E727-4642-809F-162B7AAA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F1E3-1B02-4CE9-80B9-9A036359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C9AB-67D8-4B92-A19C-575524AF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61E5-F0B8-46BF-87EB-7DC840746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8840" y="205704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icrosoft Sans Serif"/>
              </a:rPr>
              <a:t>VOLLEYB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4120" y="3123720"/>
            <a:ext cx="3581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Sarah Pal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Emmitsburg Elemen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Spring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554960" y="304920"/>
            <a:ext cx="13348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icrosoft Sans Serif"/>
              </a:rPr>
              <a:t>Volleyball uses the following techniqu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pi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Pa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e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All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61840" y="304920"/>
            <a:ext cx="17276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crosoft Sans Serif"/>
              </a:rPr>
              <a:t>QUEST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0720" y="304920"/>
            <a:ext cx="16833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VOLLEY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76360" y="1599840"/>
            <a:ext cx="5181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icrosoft Sans Serif"/>
              </a:rPr>
              <a:t>Each volley begins with a playe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piking the b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assing the b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Blocking the b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erving the b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61840" y="304920"/>
            <a:ext cx="17276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crosoft Sans Serif"/>
              </a:rPr>
              <a:t>QUEST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0720" y="304920"/>
            <a:ext cx="16833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VOLLEY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26668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00040" y="2133360"/>
            <a:ext cx="5181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In an “official game”, the volleyball can only be touched ____ times before it must be returned over the ne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161840" y="304920"/>
            <a:ext cx="17276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crosoft Sans Serif"/>
              </a:rPr>
              <a:t>QUESTION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0720" y="304920"/>
            <a:ext cx="16833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VOLLEY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21812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599840"/>
            <a:ext cx="5181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A volleyball is made from leather, or synthetic leather, and is filled with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ompressed 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ompressed s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ompressed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ompressed lea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161840" y="304920"/>
            <a:ext cx="17276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crosoft Sans Serif"/>
              </a:rPr>
              <a:t>QUESTION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0720" y="304920"/>
            <a:ext cx="16833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VOLLEY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486400" y="1143000"/>
            <a:ext cx="311292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1599840"/>
            <a:ext cx="5181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Beach Volleyball is an Olympic spo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1840" y="304920"/>
            <a:ext cx="17276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crosoft Sans Serif"/>
              </a:rPr>
              <a:t>QUESTION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0720" y="304920"/>
            <a:ext cx="16833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VOLLEY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638680" y="1219320"/>
            <a:ext cx="312444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16:34:29Z</dcterms:created>
  <dc:creator>Michael Hakkarinen</dc:creator>
  <dc:description/>
  <dc:language>en-US</dc:language>
  <cp:lastModifiedBy>fcps</cp:lastModifiedBy>
  <dcterms:modified xsi:type="dcterms:W3CDTF">2008-02-20T18:25:04Z</dcterms:modified>
  <cp:revision>8</cp:revision>
  <dc:subject/>
  <dc:title>MSA Math Practice: Session 1</dc:title>
</cp:coreProperties>
</file>