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48A-B959-4CE5-85CA-45313AF6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E4E-D457-4191-BE8E-480EFF9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A03-51BB-46A1-99EA-E0DC7220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916-AC65-4E6C-BD1E-3E9CFCB6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607-4A79-4784-9083-03C07B71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BA6-CDC0-4178-A3F4-E0A374D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6DD-4E54-4BE3-82DC-8C92C59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592-687A-4E80-94BA-88843F91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2ED-7085-4860-A238-30EFC19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19C-C849-4C3D-A0BB-C6B47A9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C70-031B-4002-AD86-9ED25B7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8B2-5AD7-4048-850A-E5B1334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123-8240-4918-A713-E00F211EA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8840" y="20570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31237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arah Pa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mmitsburg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4960" y="304920"/>
            <a:ext cx="1334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Volleyball uses the following techniq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Each volley begins with a play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pi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ass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oc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21333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In an “official game”, the volleyball can only be touched ____ times before it must be returned over the n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 volleyball is made from leather, or synthetic leather, and is filled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l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11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each Volleyball is an Olympic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fcps</cp:lastModifiedBy>
  <dcterms:modified xsi:type="dcterms:W3CDTF">2008-02-20T18:25:04Z</dcterms:modified>
  <cp:revision>8</cp:revision>
  <dc:subject/>
  <dc:title>MSA Math Practice: Session 1</dc:title>
</cp:coreProperties>
</file>