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771-C163-4A78-AF2D-837D8204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239-F531-4B6B-AEC8-135A919B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067-C903-4F71-87B6-4049AD67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B39-8DD8-42C8-B490-E4AE8ECA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A08-3513-4B2F-A537-170101E2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B5B-9027-46A2-864E-BFD205A2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7C2-C93E-47B8-BDBD-C038888E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89B-4168-4425-8C3A-D10DAA49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EBF-4AE1-4B42-9BEA-68472069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24C-58A0-4072-B67B-DC5D0FE9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94D-4559-49E0-A227-0BCA1502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063-51C2-4916-8D21-3C0A261A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3D89-AB45-4155-98E8-C6D745286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8840" y="20570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4120" y="31237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arah Pal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mmitsburg E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4960" y="304920"/>
            <a:ext cx="1334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Volleyball uses the following techniqu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pi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3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Each volley begins with a play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pi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ass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oc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rv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266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0040" y="213336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In an “official game”, the volleyball can only be touched ____ times before it must be returned over the n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2181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 volleyball is made from leather, or synthetic leather, and is filled wit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s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l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31129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each Volleyball is an Olympic s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2444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fcps</cp:lastModifiedBy>
  <dcterms:modified xsi:type="dcterms:W3CDTF">2008-02-20T18:25:04Z</dcterms:modified>
  <cp:revision>8</cp:revision>
  <dc:subject/>
  <dc:title>MSA Math Practice: Session 1</dc:title>
</cp:coreProperties>
</file>