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39F-8870-44CF-90EC-774BCB26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CCA-038B-4A01-9024-BA8ABAC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859-F415-4CB9-B640-88895029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1EA-02C0-4FCF-82C2-8FBD53E5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CD0-815F-48CB-A3FE-F8DADB7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3FF-C25C-4C7E-9874-72028B9A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B6B-7FB3-4E07-874A-AB08D119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E37-0DF5-44CB-AEEF-B65832D3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240-B04E-4F0A-87D9-03A7614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C9D-6B38-4AC8-ADD0-ED70CAA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6F7-1CD7-4E5E-A8EC-0D5CA4A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1E0-278D-4109-B7C1-1C34A9C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8F97-F7B5-4383-B637-BB1DFCAC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8840" y="20570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31237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arah Pa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Emmitsburg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4960" y="304920"/>
            <a:ext cx="1334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Volleyball uses the following techniq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Each volley begins with a play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pi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ass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Block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ng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21333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In an “official game”, the volleyball can only be touched ____ times before it must be returned over the n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A volleyball is made from leather, or synthetic leather, and is filled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s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ressed l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11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each Volleyball is an Olympic s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crosoft Sans Serif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1840" y="304920"/>
            <a:ext cx="1727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QUESTION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720" y="304920"/>
            <a:ext cx="168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34:29Z</dcterms:created>
  <dc:creator>Michael Hakkarinen</dc:creator>
  <dc:description/>
  <dc:language>en-US</dc:language>
  <cp:lastModifiedBy>fcps</cp:lastModifiedBy>
  <dcterms:modified xsi:type="dcterms:W3CDTF">2008-02-20T18:25:04Z</dcterms:modified>
  <cp:revision>8</cp:revision>
  <dc:subject/>
  <dc:title>MSA Math Practice: Session 1</dc:title>
</cp:coreProperties>
</file>