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D80-FC1C-47F2-90B5-90246E9F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D77-A70C-439F-AB78-F905C7F2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B44-FC54-4A60-B828-A13FD17A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DAE-82BD-4C16-821E-3FEC0A15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CBE0-BF01-41AA-AFAD-95A8544F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FC7C-7D87-42AF-B61D-E052ADD7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4CC6-A6D6-4C05-91AA-31E62F99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8276-0944-482A-BA42-CB121D60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B3C8-8187-4126-8770-EA8EC85F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8CC5-6C4E-401A-AF96-6E2D6D1A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4D3-573C-465E-9643-05A58E03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25E-AB67-4F18-A9FC-903E96F2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79A6-DE93-4334-8BB4-3452B189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C76-55DE-4E2E-AFCD-0363D0D2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40F4-17F3-4A80-94D8-5DEA535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0474-EB8C-4BF5-B0F2-18E65887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3664-ABEB-49FB-9BD5-02C74393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F11-480D-42DC-B48A-632038CB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139-9555-4DA8-9F7E-46BF9481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2F5-668E-418A-9494-65040063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83C-CD32-4CA4-A9DB-0947562B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473-556E-4C28-A07D-B3A2874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067-C465-43E9-A45E-A2FB1198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775-D892-4DB4-A91E-490139D6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61DD-503A-4825-A8B3-0B061FEC1F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E1A9-FEF8-4192-840A-977AF8FB69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student who studies hard, turns work in on time, and gets tutoring as needed shows goo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4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dividuals who struggle to manage stress related personal or social issues shoul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4038480"/>
            <a:ext cx="8540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d some medications to help feel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lize that hormones are in control &amp; things will eventually get b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ider talking about these issues with a teacher, counselor, or par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in several school activities to interact with more 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54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wants to manage body weight in an effective &amp; healthy manner should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.  Go on a die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.  Combine healthy eating with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gular exercise.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.  Stop eating lunc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.  Exercise 2 times every da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xually transmitted diseases that cannot be cured are caused by bacter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540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ny people with Sexually Transmitted infections do not experience any symptoms this means th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3352320"/>
            <a:ext cx="8540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rson can pass the disease to others without knowing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The person will not pass the disease to other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positive stress that helps motivate people to do better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apu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ress that holds people back and can lead to exhaustion &amp; a lowered immune system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2590560"/>
            <a:ext cx="854064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raining from participating in activities such as sex and drugs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2971440"/>
            <a:ext cx="854064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tin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 Wa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st serious risk associated with being sexually active 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3504960"/>
            <a:ext cx="854064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roken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to talk with your partner about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cting &amp; passing sexually transmitted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ng a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orexia Nervosa can lead to all of the following except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350496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 weight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ased menstral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body org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age to the teeth &amp; g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slows down body functions i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et dru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that has the ability to reduce severe pain and slows down the functions of th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3276720"/>
            <a:ext cx="85406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timal health which includes:  physical, emotional/mental, intellectual, social, &amp; spiritual health is call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3657600"/>
            <a:ext cx="854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mis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fu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 eating disorder in which individuals eat large amounts of food and then throw up as a means of weight control is call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3581280"/>
            <a:ext cx="854064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ge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rexia nerv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amily of drugs in which people breath in vapors in order to get high but can kill them instantaneously 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3200400"/>
            <a:ext cx="854064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ju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erson who sets goals for him/herself has good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ment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ec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ritual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54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order to maintain good physical health, individuals must remain active because inactive people run the risk of cardio-vascular diseases which would effect th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3809520"/>
            <a:ext cx="85406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&amp;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&amp;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09:11Z</dcterms:created>
  <dc:creator>FCPS</dc:creator>
  <dc:description/>
  <dc:language>en-US</dc:language>
  <cp:lastModifiedBy>FCPS</cp:lastModifiedBy>
  <dcterms:modified xsi:type="dcterms:W3CDTF">2008-02-20T19:13:22Z</dcterms:modified>
  <cp:revision>5</cp:revision>
  <dc:subject/>
  <dc:title>A student who studies hard, turns work in on time, and gets tutoring as needed shows g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