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161-1001-46DB-8B31-8887371B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B0D-11DD-43AA-BB84-B81A0C16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F4E-DC61-493A-A46F-3892D399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6A0-AB8F-43BF-B3C1-847CB1F6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4182-0792-4AD1-B1CF-135FA01B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9204-61BC-47EF-8547-151404CD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7A7E-537C-4080-A22F-75F425B0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00F2-4163-4DFA-8512-D656B577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68FC-F148-47C7-A7F4-CF0AC41A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88D7-A6CD-4CB6-9021-9CA94EF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BA99-AAAB-4AF5-9F86-BF3B67A1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D75-E510-4906-8D8D-BE704719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A1CC-BB29-4E2E-A192-8B53EE65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DAD7-265D-4862-A5D9-CFC3C718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E01B-D79B-42AE-B8AA-60E33AFB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B2FD-71B3-4577-90DA-BE331007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9F5C-CCFC-49C6-A091-4180BDCC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398-9748-4ABA-98D8-E0545822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1A1-10C0-495F-8112-D723E1F0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CC2-3E6B-44CF-8815-A6981D59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B4F-1EC7-4D1F-9B55-96B64256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371-8CEA-452A-A0E5-6681A9A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A0B-6A89-4F50-8A47-9AFE62A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095-332A-4EA0-A37C-08F523A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604A-6AD9-4248-B7E3-006D71817D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1CB0-5FF3-4DFA-AD1F-D53E1DAA32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student who studies hard, turns work in on time, and gets tutoring as needed shows goo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4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dividuals who struggle to manage stress related personal or social issues shoul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4038480"/>
            <a:ext cx="8540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d some medications to help feel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lize that hormones are in control &amp; things will eventually get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ider talking about these issues with a teacher, counselor, or par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in several school activities to interact with more 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54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wants to manage body weight in an effective &amp; healthy manner should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.  Go on a die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.  Combine healthy eating with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gular exercise.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.  Stop eating lunch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.  Exercise 2 times every da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xually transmitted diseases that cannot be cured are caused by bacter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540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ny people with Sexually Transmitted infections do not experience any symptoms this means th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3352320"/>
            <a:ext cx="85406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rson can pass the disease to others without knowing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The person will not pass the disease to other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positive stress that helps motivate people to do better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apu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ress that holds people back and can lead to exhaustion &amp; a lowered immune system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2590560"/>
            <a:ext cx="854064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raining from participating in activities such as sex and drugs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2971440"/>
            <a:ext cx="854064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tin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 Wa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st serious risk associated with being sexually active 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3504960"/>
            <a:ext cx="854064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roken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to talk with your partner about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cting &amp; passing sexually transmitted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ng a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orexia Nervosa can lead to all of the following except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350496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 weight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ased menstral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body org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the teeth &amp; g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slows down body functions i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et dru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has the ability to reduce severe pain and slows down the functions of th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3276720"/>
            <a:ext cx="854064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timal health which includes:  physical, emotional/mental, intellectual, social, &amp; spiritual health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3657600"/>
            <a:ext cx="854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mis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fu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 eating disorder in which individuals eat large amounts of food and then throw up as a means of weight control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ge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rexia nerv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in which people breath in vapors in order to get high but can kill them instantaneously 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3200400"/>
            <a:ext cx="854064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ju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sets goals for him/herself has good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al ment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54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order to maintain good physical health, individuals must remain active because inactive people run the risk of cardio-vascular diseases which would effect th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3809520"/>
            <a:ext cx="85406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09:11Z</dcterms:created>
  <dc:creator>FCPS</dc:creator>
  <dc:description/>
  <dc:language>en-US</dc:language>
  <cp:lastModifiedBy>FCPS</cp:lastModifiedBy>
  <dcterms:modified xsi:type="dcterms:W3CDTF">2008-02-20T19:13:22Z</dcterms:modified>
  <cp:revision>5</cp:revision>
  <dc:subject/>
  <dc:title>A student who studies hard, turns work in on time, and gets tutoring as needed shows g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