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C14-8D57-43C8-9C7A-F899ECC1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8D1-A0B3-412E-82C9-6F80F088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C94-DD0E-410E-80E2-0DCCA4A6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C2C-03A1-49D8-B625-F34CCDBB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6F38-1B7C-4ABA-835E-ED97C060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5C35-C5E6-472D-8F9C-285CED30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9176-A464-4449-A053-E9DA9B07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B988-0ABD-4238-9A40-A15F57F6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22AE-1CB9-476B-9808-0159980C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6C48-5991-45EB-9B00-28C1CC3C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96BC-F597-4C1A-BA03-7883D9F2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C4E-D280-4D89-B3DF-02AF6329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1BFC-1622-4517-A8E4-FCF7483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ED31-169A-4DBD-A91B-18DF9B2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3FAA-EACD-468C-AB2E-71D45BC2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E74C-4F75-445E-A33E-ECA80269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96C8-4F62-4077-81A2-7FBF2B04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789-6BE0-4889-A944-EC86C507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FEF-8C58-47AA-86F6-368E41C1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F78-6A0C-4C5B-92AA-B2BF8983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3C5-1D67-43E4-924F-8A40E4C0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302-37C0-4450-BA64-E2C9BBD2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1E0-CA80-43EE-8E3E-91E68CAA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46EC-5140-4833-9567-C9CE595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02A7-B54F-4FFC-BF13-022EAD5BA1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DBA-D5D1-4D5D-87DA-FD5C36BABE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student who studies hard, turns work in on time, and gets tutoring as needed shows goo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4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dividuals who struggle to manage stress related personal or social issues shoul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4038480"/>
            <a:ext cx="8540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d some medications to help feel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lize that hormones are in control &amp; things will eventually get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ider talking about these issues with a teacher, counselor, or par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in several school activities to interact with more 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54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wants to manage body weight in an effective &amp; healthy manner should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.  Go on a die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.  Combine healthy eating with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gular exercise.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.  Stop eating lunch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.  Exercise 2 times every da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xually transmitted diseases that cannot be cured are caused by bacter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540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ny people with Sexually Transmitted infections do not experience any symptoms this means th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3352320"/>
            <a:ext cx="85406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rson can pass the disease to others without knowing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The person will not pass the disease to other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positive stress that helps motivate people to do better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apu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ress that holds people back and can lead to exhaustion &amp; a lowered immune system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2590560"/>
            <a:ext cx="854064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raining from participating in activities such as sex and drugs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2971440"/>
            <a:ext cx="854064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tin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 Wa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st serious risk associated with being sexually active 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3504960"/>
            <a:ext cx="854064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roken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to talk with your partner about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cting &amp; passing sexually transmitted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ng a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orexia Nervosa can lead to all of the following except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350496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 weight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ased menstral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body org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the teeth &amp; g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slows down body functions i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et dru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has the ability to reduce severe pain and slows down the functions of th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3276720"/>
            <a:ext cx="854064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timal health which includes:  physical, emotional/mental, intellectual, social, &amp; spiritual health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3657600"/>
            <a:ext cx="854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mis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fu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 eating disorder in which individuals eat large amounts of food and then throw up as a means of weight control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ge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rexia nerv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in which people breath in vapors in order to get high but can kill them instantaneously 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3200400"/>
            <a:ext cx="854064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ju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sets goals for him/herself has good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al ment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54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order to maintain good physical health, individuals must remain active because inactive people run the risk of cardio-vascular diseases which would effect th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3809520"/>
            <a:ext cx="85406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09:11Z</dcterms:created>
  <dc:creator>FCPS</dc:creator>
  <dc:description/>
  <dc:language>en-US</dc:language>
  <cp:lastModifiedBy>FCPS</cp:lastModifiedBy>
  <dcterms:modified xsi:type="dcterms:W3CDTF">2008-02-20T19:13:22Z</dcterms:modified>
  <cp:revision>5</cp:revision>
  <dc:subject/>
  <dc:title>A student who studies hard, turns work in on time, and gets tutoring as needed shows g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