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C9E1-4E4A-42F9-A45C-ED88BA98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87E1-D391-4CD2-AE5E-4324CE56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F9EC-AE07-4B10-BE4B-7BCA9CB35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B320-C2FB-42C6-ADC6-ACFC05E70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F5FA-51E5-4286-8754-3AC7089B6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BC78-A16B-4EFB-A994-90D8E946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D3B3-DE48-47C2-B479-759D3CDE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3948-171A-401A-B1A8-DD8721D4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7AD3-D96F-4C1D-8533-260449AC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8BBD-B0E7-439E-BEF3-8CCC0555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F473-E0ED-46E9-AC01-6B9FA0D8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9004-1B97-4DBA-A466-8E0035C2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6616-2D04-49C1-B6FE-380E8133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DA40-1F18-4EEC-A522-FE14ECE9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43C2-751A-4D0C-B32A-B226A1F0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17365-04D4-43A4-A7D4-0BF568B71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5296-2195-4B01-ACAD-98836D705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D4F6-D83F-41F1-87C4-667B977E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2773-21CA-4FE1-A16B-574D266E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1BAC-DC9B-42C8-9154-0401239C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2A3B-304B-4D22-89DF-463F8952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1DDB-77A2-4983-8F57-C4C8A5B7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AD53-5E8C-4C13-A966-0B722E3A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5A3C-2F72-4BDC-A89A-4AA3A14B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E6CC-76C0-483D-BE3C-B893A083C8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16BD-D568-4686-B294-5188703319F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 student who studies hard, turns work in on time, and gets tutoring as needed shows good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ysical heal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 heal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llectual heal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iritual heal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406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dividuals who struggle to manage stress related personal or social issues shoul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4038480"/>
            <a:ext cx="854064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nd some medications to help feel bet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alize that hormones are in control &amp; things will eventually get bet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sider talking about these issues with a teacher, counselor, or par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oin several school activities to interact with more peop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54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 person who wants to manage body weight in an effective &amp; healthy manner should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.  Go on a diet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b.  Combine healthy eating with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gular exercise. 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d.  Stop eating lunch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.  Exercise 2 times every da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xually transmitted diseases that cannot be cured are caused by bacteri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l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5406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any people with Sexually Transmitted infections do not experience any symptoms this means tha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3352320"/>
            <a:ext cx="854064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erson can pass the disease to others without knowing i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 The person will not pass the disease to other peo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 positive stress that helps motivate people to do better is calle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3581280"/>
            <a:ext cx="854064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 s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us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apu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tress that holds people back and can lead to exhaustion &amp; a lowered immune system is calle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680" y="2590560"/>
            <a:ext cx="854064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us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xi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d s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fraining from participating in activities such as sex and drugs is calle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2971440"/>
            <a:ext cx="854064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u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llig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stin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.  Wai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most serious risk associated with being sexually active i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680" y="3504960"/>
            <a:ext cx="8540640" cy="25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broken hea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ving to talk with your partner about prot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acting &amp; passing sexually transmitted inf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ssing a peri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Anorexia Nervosa can lead to all of the following except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28600" y="3504960"/>
            <a:ext cx="8540640" cy="22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reme weight lo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ased menstral cy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mage to body org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mage to the teeth &amp; gu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family of drugs that slows down body functions i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mul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rcot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eet dru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ress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854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family of drugs that has the ability to reduce severe pain and slows down the functions of the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3276720"/>
            <a:ext cx="8540640" cy="28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rcot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hal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ress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mul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ptimal health which includes:  physical, emotional/mental, intellectual, social, &amp; spiritual health is calle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3657600"/>
            <a:ext cx="85406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timis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lth stat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ll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lthful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n eating disorder in which individuals eat large amounts of food and then throw up as a means of weight control is calle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3581280"/>
            <a:ext cx="854064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li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 ea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nge ea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orexia nervo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family of drugs in which people breath in vapors in order to get high but can kill them instantaneously ar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3200400"/>
            <a:ext cx="8540640" cy="28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mul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ro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iju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hal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 person who sets goals for him/herself has good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 heal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otional mental heal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llectual heal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iritual heal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0520" y="990720"/>
            <a:ext cx="8541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 order to maintain good physical health, individuals must remain active because inactive people run the risk of cardio-vascular diseases which would effect th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3809520"/>
            <a:ext cx="854064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rt &amp; lu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rt &amp; blood vess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rt &amp; musc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cles &amp; lu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8:09:11Z</dcterms:created>
  <dc:creator>FCPS</dc:creator>
  <dc:description/>
  <dc:language>en-US</dc:language>
  <cp:lastModifiedBy>FCPS</cp:lastModifiedBy>
  <dcterms:modified xsi:type="dcterms:W3CDTF">2008-02-20T19:13:22Z</dcterms:modified>
  <cp:revision>5</cp:revision>
  <dc:subject/>
  <dc:title>A student who studies hard, turns work in on time, and gets tutoring as needed shows goo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