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8A8D-98AC-427D-8902-D4ABD5828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2062-1CF8-456B-A952-8AC223712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FDBF-B56A-4621-9B4E-9DE83746F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A875-E1CA-4B88-88D1-DD72682E3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91EAE-C840-4D0A-9391-6547CC392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3A510-1F7A-4600-BFF8-AA0DD0ECA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E4CBB-B684-4954-9ED9-89B4DD55A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2B6FE-0077-4DEB-B456-82584573E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7B7B8-D858-4478-8C18-A44002935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D88C7-D43F-4E6E-981A-145C8DE41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D8C8A-7E63-4258-A386-3D30FA901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8BD8-60A1-45DC-87CB-41F37834E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FE193-D0C7-41AD-92B0-9698E3D06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EDDB9-8CAD-441D-9439-F7BE3A2F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C1AE1-000C-4D2D-A4FA-C6A6754A1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4DF4E-A0F8-4400-8F5E-10770DC80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C9EC3-C436-4365-90D7-7FBE49B72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C674-7EB1-4F6A-9C37-0F86D58FB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EBDE-8496-441C-B3DC-6C1BFA951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1E67-FE4B-467F-86B8-EA8675972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873C-8A2B-40D6-956C-B1FB25DC4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17CA-27C7-4B2B-8F0E-92A1DA00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1F00-8B4D-4E71-B963-F53854D1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B0FB-69E3-4B52-B32F-042A7FA4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7CC65-C91A-4276-AE23-182DFE4B252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115F7-05BE-49CF-B2A3-69BBFD44440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A student who studies hard, turns work in on time, and gets tutoring as needed shows good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hysical heal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cial heal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ellectual heal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iritual heal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406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Individuals who struggle to manage stress related personal or social issues should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4038480"/>
            <a:ext cx="8540640" cy="20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nd some medications to help feel bet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alize that hormones are in control &amp; things will eventually get bet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sider talking about these issues with a teacher, counselor, or par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Join several school activities to interact with more peop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80520" y="914400"/>
            <a:ext cx="854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 person who wants to manage body weight in an effective &amp; healthy manner should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.  Go on a diet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b.  Combine healthy eating with 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gular exercise. 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d.  Stop eating lunch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e.  Exercise 2 times every da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Sexually transmitted diseases that cannot be cured are caused by bacteria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l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28600" y="762120"/>
            <a:ext cx="854064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Many people with Sexually Transmitted infections do not experience any symptoms this means that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1680" y="3352320"/>
            <a:ext cx="854064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erson can pass the disease to others without knowing i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.  The person will not pass the disease to other peop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 positive stress that helps motivate people to do better is calle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01680" y="3581280"/>
            <a:ext cx="854064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od str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tr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ustr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aput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tress that holds people back and can lead to exhaustion &amp; a lowered immune system is called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1680" y="2590560"/>
            <a:ext cx="854064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tr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ustr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xie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d str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efraining from participating in activities such as sex and drugs is calle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1680" y="2971440"/>
            <a:ext cx="8540640" cy="31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tur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llig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stin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.  Wai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most serious risk associated with being sexually active i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1680" y="3504960"/>
            <a:ext cx="8540640" cy="25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broken hea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ving to talk with your partner about prot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racting &amp; passing sexually transmitted infe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ssing a peri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Anorexia Nervosa can lead to all of the following except 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28600" y="3504960"/>
            <a:ext cx="8540640" cy="22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treme weight lo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ased menstral cyc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mage to body orga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mage to the teeth &amp; gu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e family of drugs that slows down body functions i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imula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rcoti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reet dru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pressa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4920" y="685800"/>
            <a:ext cx="8540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e family of drugs that has the ability to reduce severe pain and slows down the functions of the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680" y="3276720"/>
            <a:ext cx="8540640" cy="28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rcoti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hala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pressa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imula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ptimal health which includes:  physical, emotional/mental, intellectual, social, &amp; spiritual health is calle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3657600"/>
            <a:ext cx="85406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ptimisi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alth stat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lln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althfuln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n eating disorder in which individuals eat large amounts of food and then throw up as a means of weight control is called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1680" y="3581280"/>
            <a:ext cx="854064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li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ver ea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nge ea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orexia nervo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5406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e family of drugs in which people breath in vapors in order to get high but can kill them instantaneously ar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1680" y="3200400"/>
            <a:ext cx="8540640" cy="28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imula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ro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riju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hala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 person who sets goals for him/herself has good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cial heal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motional mental heal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llectual heal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iritual heal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80520" y="990720"/>
            <a:ext cx="85410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In order to maintain good physical health, individuals must remain active because inactive people run the risk of cardio-vascular diseases which would effect th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1680" y="3809520"/>
            <a:ext cx="8540640" cy="22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art &amp; lun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art &amp; blood vesse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art &amp; musc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scles &amp; lun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4T18:09:11Z</dcterms:created>
  <dc:creator>FCPS</dc:creator>
  <dc:description/>
  <dc:language>en-US</dc:language>
  <cp:lastModifiedBy>FCPS</cp:lastModifiedBy>
  <dcterms:modified xsi:type="dcterms:W3CDTF">2008-02-20T19:13:22Z</dcterms:modified>
  <cp:revision>5</cp:revision>
  <dc:subject/>
  <dc:title>A student who studies hard, turns work in on time, and gets tutoring as needed shows goo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